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10918825" cy="7581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69080" y="6583320"/>
            <a:ext cx="1224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Jansweij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28000" y="6583320"/>
            <a:ext cx="530280" cy="262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211640" y="6583320"/>
            <a:ext cx="2917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OD Design Review: November 12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6583320"/>
            <a:ext cx="1224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F9E4D4-476F-462E-ABE9-AD7595D9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Hardware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OD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OD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OD-1 = 3 x MRODin + 1 x MROD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19640" y="1844640"/>
            <a:ext cx="202536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1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tris Regist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/ 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1308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182988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211716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240624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269352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298224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326952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9640" y="357336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58920" y="3860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20360" y="3645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20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2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2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2436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134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34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344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1344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0072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0072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0072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0072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5880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880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7708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16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1658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8980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8980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7708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6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7708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16580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20720" y="3645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2072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00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876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6400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240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2400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2400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13080" y="335772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1308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00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0036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876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3357720"/>
            <a:ext cx="35856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654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98944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8944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7672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6400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6544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12000" y="42210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2000" y="2060640"/>
            <a:ext cx="358560" cy="35856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47640" y="198900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y TDC1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516720" y="2205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46560" y="41497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 TDC 1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516360" y="436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640" y="494172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Event-ID can be set by the SHARC during MRODin 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Event-ID is hardwar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ynchronization for an MRODin channel should be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11640" y="2925720"/>
            <a:ext cx="1008000" cy="360360"/>
          </a:xfrm>
          <a:custGeom>
            <a:avLst/>
            <a:gdLst/>
            <a:ahLst/>
            <a:rect l="l" t="t" r="r" b="b"/>
            <a:pathLst>
              <a:path w="1406" h="370">
                <a:moveTo>
                  <a:pt x="0" y="325"/>
                </a:moveTo>
                <a:cubicBezTo>
                  <a:pt x="223" y="162"/>
                  <a:pt x="446" y="0"/>
                  <a:pt x="680" y="7"/>
                </a:cubicBezTo>
                <a:cubicBezTo>
                  <a:pt x="914" y="14"/>
                  <a:pt x="1160" y="192"/>
                  <a:pt x="1406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ffer Memory Parti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flow out of buffer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0920" y="2997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90920" y="2709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90920" y="2421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90920" y="2133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56000" y="2997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56000" y="2709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56000" y="2421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56000" y="2133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19640" y="2997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2709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19640" y="2421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19640" y="2133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83280" y="2997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83280" y="2709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48360" y="2997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48360" y="2709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8360" y="2421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48360" y="2133720"/>
            <a:ext cx="358920" cy="35856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812000" y="2997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12000" y="2709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12000" y="2421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5400000">
            <a:off x="3268080" y="1563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4204800" y="1563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5400000">
            <a:off x="5068440" y="1563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400000">
            <a:off x="5931720" y="1563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6797160" y="1563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5400000">
            <a:off x="7660800" y="1563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80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967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8440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7168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604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4804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61440" y="26370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2O-FIF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38560" y="4149720"/>
            <a:ext cx="144360" cy="35892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8200" y="422100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Link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LP)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65480" y="4797360"/>
            <a:ext cx="358560" cy="3589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9092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7164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6692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5600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328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54200" y="4797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41480" y="4797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30560" y="4797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17840" y="4797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03680" y="4797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92400" y="4797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80040" y="4797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0560" y="4797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98920" y="4726080"/>
            <a:ext cx="43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4920" y="472608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38560" y="472608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472608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14920" y="472608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056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7840" y="4797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02200" y="472608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46560" y="4797360"/>
            <a:ext cx="358920" cy="35892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06560" y="3284640"/>
            <a:ext cx="0" cy="287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12760" y="378936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ler and Word Count (TW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 Count and Even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778200" y="3860640"/>
            <a:ext cx="1584360" cy="64800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79640" y="5300640"/>
            <a:ext cx="26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Output Data FIF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2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265480" y="5302080"/>
            <a:ext cx="29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38560" y="3645000"/>
            <a:ext cx="1366560" cy="3585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3840" y="3500280"/>
            <a:ext cx="216036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0560" y="5229360"/>
            <a:ext cx="923760" cy="720720"/>
          </a:xfrm>
          <a:custGeom>
            <a:avLst/>
            <a:gdLst/>
            <a:ahLst/>
            <a:rect l="l" t="t" r="r" b="b"/>
            <a:pathLst>
              <a:path w="582" h="651">
                <a:moveTo>
                  <a:pt x="499" y="0"/>
                </a:moveTo>
                <a:cubicBezTo>
                  <a:pt x="540" y="219"/>
                  <a:pt x="582" y="439"/>
                  <a:pt x="499" y="545"/>
                </a:cubicBezTo>
                <a:cubicBezTo>
                  <a:pt x="416" y="651"/>
                  <a:pt x="208" y="643"/>
                  <a:pt x="0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979640" y="57340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Length FIF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2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14560" y="2997360"/>
            <a:ext cx="1187640" cy="1511280"/>
          </a:xfrm>
          <a:custGeom>
            <a:avLst/>
            <a:gdLst/>
            <a:ahLst/>
            <a:rect l="l" t="t" r="r" b="b"/>
            <a:pathLst>
              <a:path w="801" h="952">
                <a:moveTo>
                  <a:pt x="733" y="0"/>
                </a:moveTo>
                <a:cubicBezTo>
                  <a:pt x="767" y="98"/>
                  <a:pt x="801" y="196"/>
                  <a:pt x="778" y="317"/>
                </a:cubicBezTo>
                <a:cubicBezTo>
                  <a:pt x="755" y="438"/>
                  <a:pt x="710" y="650"/>
                  <a:pt x="597" y="726"/>
                </a:cubicBezTo>
                <a:cubicBezTo>
                  <a:pt x="484" y="802"/>
                  <a:pt x="196" y="733"/>
                  <a:pt x="98" y="771"/>
                </a:cubicBezTo>
                <a:cubicBezTo>
                  <a:pt x="0" y="809"/>
                  <a:pt x="3" y="880"/>
                  <a:pt x="7" y="952"/>
                </a:cubicBezTo>
              </a:path>
            </a:pathLst>
          </a:custGeom>
          <a:noFill/>
          <a:ln w="93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35280" y="2852640"/>
            <a:ext cx="1463760" cy="1656000"/>
          </a:xfrm>
          <a:custGeom>
            <a:avLst/>
            <a:gdLst/>
            <a:ahLst/>
            <a:rect l="l" t="t" r="r" b="b"/>
            <a:pathLst>
              <a:path w="832" h="998">
                <a:moveTo>
                  <a:pt x="635" y="0"/>
                </a:moveTo>
                <a:cubicBezTo>
                  <a:pt x="733" y="76"/>
                  <a:pt x="832" y="152"/>
                  <a:pt x="726" y="318"/>
                </a:cubicBezTo>
                <a:cubicBezTo>
                  <a:pt x="620" y="484"/>
                  <a:pt x="310" y="741"/>
                  <a:pt x="0" y="998"/>
                </a:cubicBezTo>
              </a:path>
            </a:pathLst>
          </a:custGeom>
          <a:noFill/>
          <a:ln w="93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5722560" y="4581000"/>
            <a:ext cx="30942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TDC is not present then don’t read the partition! You’ll never encounter a Trail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formation is signaled in the data stream (TLP wo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Data FIFO is read with continuous DMA by the SHA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FIFO provides event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reading TDC data from buffer memory, data can be zero 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e. TDC header immediately followed by TDC trai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1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flow out of buffer memory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50920" y="3716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MRODin encounters a TDC Header, it reformats the TDC-ID b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Forma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DC-ID in TDC Heade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3640" y="1484280"/>
            <a:ext cx="1366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59280" y="1484280"/>
            <a:ext cx="1512720" cy="358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98920" y="1484280"/>
            <a:ext cx="29527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-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85800" y="19162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-ID (4-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84360" y="2205000"/>
            <a:ext cx="45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Nibble = TDC data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Of TDC Group (used by AMT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 AMT-2/3 c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1989000"/>
            <a:ext cx="433440" cy="1447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82920" y="1989000"/>
            <a:ext cx="1801800" cy="432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155736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by C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65440" y="4221000"/>
            <a:ext cx="100800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1280" y="46530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-bit TDC-ID based on TDM time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4160" y="4941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37080" y="4724280"/>
            <a:ext cx="863640" cy="1447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68360" y="4726080"/>
            <a:ext cx="2232360" cy="43164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00360" y="4221000"/>
            <a:ext cx="1873080" cy="358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0720" y="4221000"/>
            <a:ext cx="29527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-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4000" y="5229360"/>
            <a:ext cx="8642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5-bits, 18 TDCs can be co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: T. Wijnen, “The MROD data format”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TL-COM-MUON-2003-0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hef.kun.nl/atla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692360" y="2421000"/>
            <a:ext cx="1366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1280" y="249228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by M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87640" y="2421000"/>
            <a:ext cx="43200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48000" y="2421000"/>
            <a:ext cx="43200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08360" y="2421000"/>
            <a:ext cx="792360" cy="3585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27640" y="2421000"/>
            <a:ext cx="29527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-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26920" y="285120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bits, residue from TDC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27640" y="31399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M -&gt; MROD Parity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27280" y="342756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-&gt; CSM Parity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25120" y="3716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Nibble = TDC data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67280" y="2924280"/>
            <a:ext cx="360360" cy="14436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64000" y="2925720"/>
            <a:ext cx="863640" cy="432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3640" y="2925720"/>
            <a:ext cx="1224000" cy="719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11280" y="2925720"/>
            <a:ext cx="2016360" cy="1008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92360" y="1197000"/>
            <a:ext cx="1366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87640" y="1197000"/>
            <a:ext cx="1513080" cy="358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27640" y="1197000"/>
            <a:ext cx="29527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-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28720" y="16272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-ID (4-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25120" y="19144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Nibble = TDC data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80000" y="1773360"/>
            <a:ext cx="647640" cy="71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11280" y="1701720"/>
            <a:ext cx="2016360" cy="432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0920" y="126828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by C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92360" y="5373720"/>
            <a:ext cx="1366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26200" y="609120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lacemen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64000" y="5805360"/>
            <a:ext cx="863640" cy="216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5640" y="5878440"/>
            <a:ext cx="2232000" cy="432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87640" y="5373720"/>
            <a:ext cx="151308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27640" y="5373720"/>
            <a:ext cx="29527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-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ormat: Parity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28360" y="58039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Ni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0920" y="4292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MRODin encounters a TDC Parity Error or an Input Link Parity Err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replaces the upper nibble with an Error replacement code (programm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40000" y="5013360"/>
            <a:ext cx="1440000" cy="288720"/>
          </a:xfrm>
          <a:custGeom>
            <a:avLst/>
            <a:gdLst/>
            <a:ahLst/>
            <a:rect l="l" t="t" r="r" b="b"/>
            <a:pathLst>
              <a:path w="907" h="182">
                <a:moveTo>
                  <a:pt x="0" y="182"/>
                </a:moveTo>
                <a:cubicBezTo>
                  <a:pt x="174" y="91"/>
                  <a:pt x="348" y="0"/>
                  <a:pt x="499" y="0"/>
                </a:cubicBezTo>
                <a:cubicBezTo>
                  <a:pt x="650" y="0"/>
                  <a:pt x="778" y="91"/>
                  <a:pt x="907" y="1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in Inter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Q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O_FIFO Full (128 entr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Memory Partition Full (8 K 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Out 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C Parity error (+ Overru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Q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Link Parity error (+ Overru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Link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Q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C Early, Late (+ Overru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X: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hutdown Read-out for particular T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nterrupt sources are individually mask-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in FPGA Reg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DC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DC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Pat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Bit M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ror-Code Replace Patte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59280" y="1125360"/>
            <a:ext cx="288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sb’s MRODin Header Pattern (TL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sb’s MRODin Trailer Pattern (TW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vent Length FI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 Control IR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2O_FIFO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 Memory Partition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ad-out Max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DC Parity Error (Overr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DC Parity Error Individual Interrup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put Link Interrupt IR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Link Parity error (Overr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Link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12000" y="112536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arly and Late Event-ID IR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DC number, Event-ID (Overr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Test &amp; Input Link Control Status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Test Link Data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Test Link Control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um Even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ected Even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DC Mask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tition Read-out 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arator Flags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building of TD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tris register creates a fault tolerant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PGAs supply SHARCs with appropriate (error)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able by SHARC via access to registers and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MROD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52563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E64x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C Interface via 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 and Flow control via 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GA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12000" y="549360"/>
            <a:ext cx="2452680" cy="5790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8245440" y="4799160"/>
            <a:ext cx="898560" cy="33624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7321680" y="701640"/>
            <a:ext cx="10666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ME6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321680" y="5654520"/>
            <a:ext cx="1066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103440" y="6253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RO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473960" y="4664160"/>
            <a:ext cx="7621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854840" y="1311120"/>
            <a:ext cx="180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854840" y="5349960"/>
            <a:ext cx="18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78680" y="1768320"/>
            <a:ext cx="10666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79760" y="176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79760" y="222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61000" y="2606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179760" y="2606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61000" y="176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78680" y="3978360"/>
            <a:ext cx="10666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9760" y="3978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179760" y="443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61000" y="3978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9760" y="481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561000" y="481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792760" y="1387440"/>
            <a:ext cx="385920" cy="533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5792760" y="2378160"/>
            <a:ext cx="385920" cy="9144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92760" y="2759040"/>
            <a:ext cx="385920" cy="2438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5792760" y="1692000"/>
            <a:ext cx="385920" cy="2438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5792760" y="3597120"/>
            <a:ext cx="385920" cy="9907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792760" y="4968720"/>
            <a:ext cx="38592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96000" y="5121360"/>
            <a:ext cx="915840" cy="850680"/>
          </a:xfrm>
          <a:custGeom>
            <a:avLst/>
            <a:gdLst/>
            <a:ahLst/>
            <a:rect l="l" t="t" r="r" b="b"/>
            <a:pathLst>
              <a:path w="960" h="536">
                <a:moveTo>
                  <a:pt x="0" y="384"/>
                </a:moveTo>
                <a:cubicBezTo>
                  <a:pt x="28" y="460"/>
                  <a:pt x="56" y="536"/>
                  <a:pt x="192" y="528"/>
                </a:cubicBezTo>
                <a:cubicBezTo>
                  <a:pt x="328" y="520"/>
                  <a:pt x="688" y="424"/>
                  <a:pt x="816" y="336"/>
                </a:cubicBezTo>
                <a:cubicBezTo>
                  <a:pt x="944" y="248"/>
                  <a:pt x="936" y="56"/>
                  <a:pt x="96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796000" y="930240"/>
            <a:ext cx="915840" cy="851040"/>
          </a:xfrm>
          <a:custGeom>
            <a:avLst/>
            <a:gdLst/>
            <a:ahLst/>
            <a:rect l="l" t="t" r="r" b="b"/>
            <a:pathLst>
              <a:path w="960" h="536">
                <a:moveTo>
                  <a:pt x="0" y="384"/>
                </a:moveTo>
                <a:cubicBezTo>
                  <a:pt x="28" y="460"/>
                  <a:pt x="56" y="536"/>
                  <a:pt x="192" y="528"/>
                </a:cubicBezTo>
                <a:cubicBezTo>
                  <a:pt x="328" y="520"/>
                  <a:pt x="688" y="424"/>
                  <a:pt x="816" y="336"/>
                </a:cubicBezTo>
                <a:cubicBezTo>
                  <a:pt x="944" y="248"/>
                  <a:pt x="936" y="56"/>
                  <a:pt x="96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941880" y="2606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41880" y="3978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245000" y="43592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711480" y="2911320"/>
            <a:ext cx="180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711480" y="3521160"/>
            <a:ext cx="180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245360" y="2759040"/>
            <a:ext cx="121932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245000" y="4130640"/>
            <a:ext cx="121932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931880" y="367344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V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31880" y="283536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V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245000" y="25304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26760" y="321624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H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5708520" y="549360"/>
            <a:ext cx="3435480" cy="58323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ME64x Slave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08720" y="692280"/>
            <a:ext cx="1067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ME6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; Chris Parkman, “ATLAS Read Out Driver VMEbus Implementation”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http://atlas.web.cern.ch/Atlas/GROUPS/FRONTEND/documents/ROD_VME83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/CSR (AM 0x2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24/D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Cyc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and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24/D32/D16/D08(EO)/D08(O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Cycle, RM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32/D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Cycle, RMW, B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refe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VME64x range, currently filled with the VME64 sub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/BitSet/BitClr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 may generate a VMEbus 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able IRQ level [1..7]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I(n) D08(O) where n=1..7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mable 8-bit Status-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A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refe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 0x10 (User Defined) used as HARD Reset for the SHAR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2000" y="692280"/>
            <a:ext cx="5639040" cy="5790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8320" y="768240"/>
            <a:ext cx="27432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1320" y="84456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8520" y="1301760"/>
            <a:ext cx="1066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9640" y="136836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876400" y="107316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72440" y="4883040"/>
            <a:ext cx="144756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81320" y="2139840"/>
            <a:ext cx="914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4640" y="1835280"/>
            <a:ext cx="7617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76400" y="229248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58040" y="844560"/>
            <a:ext cx="10666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ME6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58040" y="5797440"/>
            <a:ext cx="1066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9640" y="19447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39800" y="7682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RO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20720" y="1512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ROD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4640" y="844560"/>
            <a:ext cx="7617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8320" y="2673360"/>
            <a:ext cx="27432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1320" y="274968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8520" y="320688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76400" y="297828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1320" y="404496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4640" y="3740040"/>
            <a:ext cx="7617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76400" y="4196880"/>
            <a:ext cx="3049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14640" y="2749680"/>
            <a:ext cx="7617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4578480"/>
            <a:ext cx="27432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81320" y="4654440"/>
            <a:ext cx="9144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38520" y="5111640"/>
            <a:ext cx="1066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76400" y="4882680"/>
            <a:ext cx="3049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1320" y="595008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5645160"/>
            <a:ext cx="7617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876400" y="610236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4640" y="4654440"/>
            <a:ext cx="7617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10320" y="4807080"/>
            <a:ext cx="7621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1200" y="1454040"/>
            <a:ext cx="180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91200" y="5492880"/>
            <a:ext cx="18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9440" y="125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49440" y="1758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78040" y="132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040" y="163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9440" y="3156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49440" y="364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040" y="3232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040" y="353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9440" y="5060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9440" y="5568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78040" y="5137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78040" y="544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00640" y="3968640"/>
            <a:ext cx="1440" cy="1143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400640" y="2063880"/>
            <a:ext cx="1440" cy="1143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1911240"/>
            <a:ext cx="10666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6480" y="1911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6480" y="2368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7360" y="274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480" y="274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97360" y="1911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5040" y="4121280"/>
            <a:ext cx="10666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16480" y="4121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6480" y="457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7360" y="4121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6480" y="495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97360" y="495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705200" y="1530360"/>
            <a:ext cx="609840" cy="533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705200" y="2521080"/>
            <a:ext cx="609840" cy="9144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705200" y="2901960"/>
            <a:ext cx="609840" cy="2438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705200" y="1834920"/>
            <a:ext cx="609840" cy="2438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705200" y="3740040"/>
            <a:ext cx="609840" cy="9907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05200" y="5111640"/>
            <a:ext cx="60984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00640" y="5264280"/>
            <a:ext cx="1447560" cy="850680"/>
          </a:xfrm>
          <a:custGeom>
            <a:avLst/>
            <a:gdLst/>
            <a:ahLst/>
            <a:rect l="l" t="t" r="r" b="b"/>
            <a:pathLst>
              <a:path w="960" h="536">
                <a:moveTo>
                  <a:pt x="0" y="384"/>
                </a:moveTo>
                <a:cubicBezTo>
                  <a:pt x="28" y="460"/>
                  <a:pt x="56" y="536"/>
                  <a:pt x="192" y="528"/>
                </a:cubicBezTo>
                <a:cubicBezTo>
                  <a:pt x="328" y="520"/>
                  <a:pt x="688" y="424"/>
                  <a:pt x="816" y="336"/>
                </a:cubicBezTo>
                <a:cubicBezTo>
                  <a:pt x="944" y="248"/>
                  <a:pt x="936" y="56"/>
                  <a:pt x="96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00640" y="1072800"/>
            <a:ext cx="1447560" cy="851040"/>
          </a:xfrm>
          <a:custGeom>
            <a:avLst/>
            <a:gdLst/>
            <a:ahLst/>
            <a:rect l="l" t="t" r="r" b="b"/>
            <a:pathLst>
              <a:path w="960" h="536">
                <a:moveTo>
                  <a:pt x="0" y="384"/>
                </a:moveTo>
                <a:cubicBezTo>
                  <a:pt x="28" y="460"/>
                  <a:pt x="56" y="536"/>
                  <a:pt x="192" y="528"/>
                </a:cubicBezTo>
                <a:cubicBezTo>
                  <a:pt x="328" y="520"/>
                  <a:pt x="688" y="424"/>
                  <a:pt x="816" y="336"/>
                </a:cubicBezTo>
                <a:cubicBezTo>
                  <a:pt x="944" y="248"/>
                  <a:pt x="936" y="56"/>
                  <a:pt x="96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78240" y="274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78240" y="4121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381360" y="450216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47840" y="3054240"/>
            <a:ext cx="180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47840" y="3664080"/>
            <a:ext cx="180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81720" y="2901960"/>
            <a:ext cx="1219320" cy="1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381360" y="4273560"/>
            <a:ext cx="1219320" cy="1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8240" y="381636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V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68240" y="297828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V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381360" y="267336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3120" y="335916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H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16360" y="1728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90800" y="3618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6360" y="5545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56000" y="16556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456000" y="136800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9640" y="331164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79640" y="388764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0720" y="3456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ROD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56000" y="36003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56000" y="331164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51847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9640" y="576108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20720" y="5329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ROD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56000" y="5472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56000" y="518436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11280" y="122400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0" y="2952720"/>
            <a:ext cx="13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Link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11280" y="21607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11280" y="31669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11280" y="410364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1280" y="504036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11280" y="59770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0"/>
            <a:ext cx="57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OD-1 Hardwar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5708520" y="549360"/>
            <a:ext cx="3435480" cy="583236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7308720" y="5661000"/>
            <a:ext cx="1067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TC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b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College Lo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ep.ucl.ac.uk/atlas/sct/ti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a special P3 backplane with a so called TTC-bus (8 serial sign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 Distribu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/ Bunch-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into a FIFO that can be read by the SH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ger-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 into a FIFO that can be read by the SH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ed to SHARC IR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used by M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1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used by M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 Incorporates Busy Logic to throttle the C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3708360" y="1773360"/>
            <a:ext cx="6174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5708520" y="549360"/>
            <a:ext cx="3435480" cy="5832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8244000" y="4797360"/>
            <a:ext cx="900000" cy="36036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FO and Flow control via 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199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-Link interface 16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GA contains S-Link Output FIFO (256) to avoid local bus stall due to an X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Cs can transfer output data through a chained 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out Inter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Q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Link Return Lines (LRL)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Link L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Q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Counter Reset (E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Q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/Bunch-ID FIFO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Type FIFO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nterrupt sources are individually mask-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out FPGA Reg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" y="1143000"/>
            <a:ext cx="8280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MEbus I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RQ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-bit Status-ID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MEbus BAR and I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gger VMEbus I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RQ Pending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-LINK Status and Interrupt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nk Return Lines (L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RL Change 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nk Down 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TC Control/Status and Interrupt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ent-ID/Bunch-ID/Trigger Type FIFO Empty/Ful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ent-ID/Bunch-ID/Trigger Type FIFO Full 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FO Flush select (Software or E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ets and L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building of data from 3 (/4) MRODin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ting of the output data for the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able by SHARC via access to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MROD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391280" cy="20714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814920" cy="34336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837440" y="41497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O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86880" y="544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O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Reset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85672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ffer memory, Separate partition per TDC, Dataflow into the buffer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tris register, I2O-FIFO, Fault tolerance, Error signaling and handling , Resynchr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flow out of buffer memory, DMA, Zero suppression, Length FI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ormat, TDC-ID, Parity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GA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981000"/>
            <a:ext cx="6840720" cy="489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6320" y="1052640"/>
            <a:ext cx="4952880" cy="345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8120" y="1844640"/>
            <a:ext cx="1752480" cy="182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1840" y="1311120"/>
            <a:ext cx="14428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T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4076640"/>
            <a:ext cx="936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96360" y="429264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443700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96360" y="458136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96360" y="4724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76920" y="222552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776920" y="2224800"/>
            <a:ext cx="1046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24440" y="2911320"/>
            <a:ext cx="1600200" cy="30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306864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1268280"/>
            <a:ext cx="720720" cy="187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25440" y="1916280"/>
            <a:ext cx="860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et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19280" y="14839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184464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93480" y="1197000"/>
            <a:ext cx="72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25840" y="1773360"/>
            <a:ext cx="89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10040" y="2133720"/>
            <a:ext cx="6858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2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2492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840" y="2530440"/>
            <a:ext cx="304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00400" y="2225520"/>
            <a:ext cx="91440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54" idx="1"/>
          </p:cNvCxnSpPr>
          <p:nvPr/>
        </p:nvCxnSpPr>
        <p:spPr>
          <a:xfrm flipV="1" rot="10800000">
            <a:off x="5319000" y="1843560"/>
            <a:ext cx="762840" cy="1067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948120" y="3749760"/>
            <a:ext cx="175248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076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31080" y="3645000"/>
            <a:ext cx="13114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Sharc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 (80)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2640" y="1181160"/>
            <a:ext cx="56664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24440" y="3292560"/>
            <a:ext cx="160020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F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342900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76320" y="4653000"/>
            <a:ext cx="4964040" cy="1152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278136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867280" y="4797000"/>
            <a:ext cx="432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0400" y="4076640"/>
            <a:ext cx="199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 Channel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1120" y="5373720"/>
            <a:ext cx="198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GA Channe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4508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52560" y="28584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ODi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9880" y="10382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-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720" y="146988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619280" y="1557000"/>
            <a:ext cx="647640" cy="215640"/>
          </a:xfrm>
          <a:custGeom>
            <a:avLst/>
            <a:gdLst>
              <a:gd name="textAreaLeft" fmla="*/ 142200 w 647640"/>
              <a:gd name="textAreaRight" fmla="*/ 505440 w 6476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1258560" y="1363320"/>
            <a:ext cx="5333040" cy="258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7347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734707"/>
              </a:path>
            </a:pathLst>
          </a:custGeom>
          <a:noFill/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" y="479736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-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5229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5157720"/>
            <a:ext cx="122400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867280" y="5444640"/>
            <a:ext cx="432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628640"/>
            <a:ext cx="4033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7002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268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411560" y="189000"/>
            <a:ext cx="67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DT Readout chain woode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32000" y="3718080"/>
            <a:ext cx="1727280" cy="14396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3718080"/>
            <a:ext cx="2305080" cy="14396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3718080"/>
            <a:ext cx="3456000" cy="14396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3718080"/>
            <a:ext cx="4032360" cy="14396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ffer Memory Parti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flow into buffer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092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1636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8000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8200" y="256536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Division Multiple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356000" y="292428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328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328608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1200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9928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8360" y="3286080"/>
            <a:ext cx="358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692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6544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4365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07844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32000" y="46544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4365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407844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465444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5640" y="4365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407844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465444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2436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65444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4365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078440"/>
            <a:ext cx="358920" cy="35856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88000" y="465444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88000" y="4365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6036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4944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3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672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2544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272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36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544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9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5272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4180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29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8144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05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872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5780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45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0872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9780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2144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85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380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461080" y="292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972800" y="5595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2909160" y="5595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772800" y="5595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4636440" y="5595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5501520" y="5595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365160" y="5595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1484280"/>
            <a:ext cx="358560" cy="35892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1628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14560" y="141300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Start new TDM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3480" y="184464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Time slot f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3718080"/>
            <a:ext cx="1152720" cy="14396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6240" y="6165720"/>
            <a:ext cx="55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eal life: 18 Buffer Memory Partitions (8 K words e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2349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2349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16360" y="23493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data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23493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1557360"/>
            <a:ext cx="216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C headers are omitted for simplicit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tris Regist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36432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13080" y="36432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182988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11716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40624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269352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298224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326952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48428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Tetris 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6 x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eal life, Tetris 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8 x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9640" y="357192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385920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20720" y="36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20360" y="27795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2436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2436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34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134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344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344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0072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072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880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880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7708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58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8980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8980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7708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580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20720" y="3645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2072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22920" y="5300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2000" y="5300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99280" y="5300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86560" y="5300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75640" y="5300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5300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88000" y="421956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62160" y="4437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2O-FI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95640" y="1989000"/>
            <a:ext cx="141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raile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11640" y="2925720"/>
            <a:ext cx="1008000" cy="360360"/>
          </a:xfrm>
          <a:custGeom>
            <a:avLst/>
            <a:gdLst/>
            <a:ahLst/>
            <a:rect l="l" t="t" r="r" b="b"/>
            <a:pathLst>
              <a:path w="1406" h="370">
                <a:moveTo>
                  <a:pt x="0" y="325"/>
                </a:moveTo>
                <a:cubicBezTo>
                  <a:pt x="223" y="162"/>
                  <a:pt x="446" y="0"/>
                  <a:pt x="680" y="7"/>
                </a:cubicBezTo>
                <a:cubicBezTo>
                  <a:pt x="914" y="14"/>
                  <a:pt x="1160" y="192"/>
                  <a:pt x="1406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00360" y="36432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87640" y="36432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36432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64000" y="36432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400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30672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24000" y="27795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13080" y="335592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1308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13080" y="27795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0036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306720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27795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764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335592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6544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8944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89440" y="27795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6400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27795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65440" y="27795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51640" y="5300640"/>
            <a:ext cx="1366920" cy="3589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tris Regist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C trailer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24000" y="36432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13080" y="36432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182988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211716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240624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269352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298224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3269520" y="4297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640" y="357192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385920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20720" y="36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20360" y="27795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2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2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2436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34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344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344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0072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0072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0072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0072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880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880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7708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7708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6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658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8980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8980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7708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580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20720" y="3645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2072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21480" y="52308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0200" y="52308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7480" y="52308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85120" y="52308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52308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1120" y="52308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88000" y="4221000"/>
            <a:ext cx="180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63600" y="4292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2O-FI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24000" y="1989000"/>
            <a:ext cx="14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raile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13080" y="335592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128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0360" y="36432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87640" y="364320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6432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64000" y="364320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0036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8764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335592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65440" y="33559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4000" y="30672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24000" y="27795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1308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13080" y="27795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00360" y="306720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00360" y="27795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8944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89440" y="27795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64000" y="30672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76720" y="27795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65440" y="27795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2292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12000" y="494172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99280" y="494172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86560" y="4941720"/>
            <a:ext cx="35892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75640" y="494172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4941720"/>
            <a:ext cx="358560" cy="35892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5229360"/>
            <a:ext cx="1548000" cy="35856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51640" y="4941720"/>
            <a:ext cx="1548000" cy="3589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11640" y="2925720"/>
            <a:ext cx="1008000" cy="360360"/>
          </a:xfrm>
          <a:custGeom>
            <a:avLst/>
            <a:gdLst/>
            <a:ahLst/>
            <a:rect l="l" t="t" r="r" b="b"/>
            <a:pathLst>
              <a:path w="1406" h="370">
                <a:moveTo>
                  <a:pt x="0" y="325"/>
                </a:moveTo>
                <a:cubicBezTo>
                  <a:pt x="223" y="162"/>
                  <a:pt x="446" y="0"/>
                  <a:pt x="680" y="7"/>
                </a:cubicBezTo>
                <a:cubicBezTo>
                  <a:pt x="914" y="14"/>
                  <a:pt x="1160" y="192"/>
                  <a:pt x="1406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tris Register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orious absence of TD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nic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240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1308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182988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211716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240624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269352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298224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3269520" y="42987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9640" y="357336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58920" y="3860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0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0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2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2436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2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2436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34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34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1344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344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0072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0072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0072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8800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880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7708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64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658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8980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8980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7708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64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7708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580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20720" y="3645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2072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21480" y="5013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10200" y="5013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97480" y="5013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585120" y="501336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73840" y="5013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161120" y="5013360"/>
            <a:ext cx="358920" cy="358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86560" y="4221000"/>
            <a:ext cx="144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2160" y="4292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2O-FI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78560" y="2133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ival of a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vent-I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2400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13080" y="335772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0036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7640" y="364500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64000" y="364500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0036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6720" y="3357720"/>
            <a:ext cx="35856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65440" y="3357720"/>
            <a:ext cx="358920" cy="35856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2400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308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1308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00360" y="3068640"/>
            <a:ext cx="35892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944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8944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672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64000" y="3068640"/>
            <a:ext cx="358560" cy="358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87640" y="2782800"/>
            <a:ext cx="358920" cy="35892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2781360"/>
            <a:ext cx="35856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440" y="2781360"/>
            <a:ext cx="358920" cy="358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51640" y="5013360"/>
            <a:ext cx="1509840" cy="3589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-ID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11640" y="2925720"/>
            <a:ext cx="1008000" cy="360360"/>
          </a:xfrm>
          <a:custGeom>
            <a:avLst/>
            <a:gdLst/>
            <a:ahLst/>
            <a:rect l="l" t="t" r="r" b="b"/>
            <a:pathLst>
              <a:path w="1406" h="370">
                <a:moveTo>
                  <a:pt x="0" y="325"/>
                </a:moveTo>
                <a:cubicBezTo>
                  <a:pt x="223" y="162"/>
                  <a:pt x="446" y="0"/>
                  <a:pt x="680" y="7"/>
                </a:cubicBezTo>
                <a:cubicBezTo>
                  <a:pt x="914" y="14"/>
                  <a:pt x="1160" y="192"/>
                  <a:pt x="1406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1:45:45Z</dcterms:created>
  <dc:creator>kostunrix</dc:creator>
  <dc:description/>
  <dc:language>en-US</dc:language>
  <cp:lastModifiedBy>peterj</cp:lastModifiedBy>
  <cp:lastPrinted>2000-05-02T12:41:18Z</cp:lastPrinted>
  <dcterms:modified xsi:type="dcterms:W3CDTF">2003-11-11T08:18:17Z</dcterms:modified>
  <cp:revision>143</cp:revision>
  <dc:subject/>
  <dc:title>No Slide Title</dc:title>
</cp:coreProperties>
</file>