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E70D-5751-40C0-9511-B0772140B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D2E2-0AA6-4EE1-B4F3-61DC686E4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5DDA-B418-4434-B1FC-ADE7E0E68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D209-C5EA-4772-BC98-78E40CBAE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7504-3DD6-4939-BF4D-FF8EA2819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DF25-ED57-4DED-B022-3FCA38D14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82A5-2D6B-42B3-B38E-967F91E2F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8435-84D0-4411-84F2-0F8864E1D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E256-E004-46F1-9325-82A5564CB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A5CC-2075-4327-9C64-AF80D8EB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DF5E-1BC2-4501-B512-EBD1DC66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4F1C-0C96-4926-8DE3-76C6D5B4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A6748-07A0-4620-A3E3-54BF21EDB9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3200400" y="68580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2209680" y="160020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1752480" y="22860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15:58:34Z</dcterms:created>
  <dc:creator>h73</dc:creator>
  <dc:description/>
  <dc:language>en-US</dc:language>
  <cp:lastModifiedBy>h73</cp:lastModifiedBy>
  <dcterms:modified xsi:type="dcterms:W3CDTF">2009-12-03T16:04:15Z</dcterms:modified>
  <cp:revision>1</cp:revision>
  <dc:subject/>
  <dc:title>Slide 1</dc:title>
</cp:coreProperties>
</file>