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27-A4E5-4FE9-84E5-5D7C53AB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E96-326B-4FA0-A0E5-0061C49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98A-E091-4DBB-BC36-BE361B41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8F0-7497-46EC-89D7-C351D26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F69-6271-40FA-A1D2-F8F798C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2E4-704D-4C38-9ADB-A06C3911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9DC-EAE9-4328-870C-A390EAE6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492-C59D-4A6C-9D9E-DC0A541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1AC-D218-480E-B785-5850406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CB3-813A-4B93-B353-58CE9D1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C68-9151-48F3-92F3-E9A1227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157-D1A5-44E0-9278-8C347EF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D33-6077-406A-AF00-2D107CF92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8:34Z</dcterms:created>
  <dc:creator>h73</dc:creator>
  <dc:description/>
  <dc:language>en-US</dc:language>
  <cp:lastModifiedBy>h73</cp:lastModifiedBy>
  <dcterms:modified xsi:type="dcterms:W3CDTF">2009-12-03T16:04:15Z</dcterms:modified>
  <cp:revision>1</cp:revision>
  <dc:subject/>
  <dc:title>Slide 1</dc:title>
</cp:coreProperties>
</file>