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18D1-4065-41D4-9E71-CD3BDBF24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815472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640" y="4034880"/>
            <a:ext cx="815472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CED4-3D24-4E24-9382-49208D2D5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0520" y="134100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640" y="403488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0520" y="403488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7298-26EF-4ED0-A39E-CE4273EA5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26254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8880" y="1341000"/>
            <a:ext cx="26254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85760" y="1341000"/>
            <a:ext cx="26254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640" y="4034880"/>
            <a:ext cx="26254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28880" y="4034880"/>
            <a:ext cx="26254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85760" y="4034880"/>
            <a:ext cx="26254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CF5D-D643-4DC0-B1CF-122FB7B31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71640" y="1341000"/>
            <a:ext cx="815472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815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3979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341000"/>
            <a:ext cx="3979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71280" y="-100080"/>
            <a:ext cx="79930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50520" y="1341000"/>
            <a:ext cx="3979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71640" y="403488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640" y="1341000"/>
            <a:ext cx="815472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28FE-B639-4D64-A492-96DA75BB5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3979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0520" y="134100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50520" y="403488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0520" y="134100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71640" y="4034880"/>
            <a:ext cx="815472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815472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71640" y="4034880"/>
            <a:ext cx="815472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34100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71640" y="403488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50520" y="403488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26254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28880" y="1341000"/>
            <a:ext cx="26254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85760" y="1341000"/>
            <a:ext cx="26254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71640" y="4034880"/>
            <a:ext cx="26254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728880" y="4034880"/>
            <a:ext cx="26254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85760" y="4034880"/>
            <a:ext cx="26254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815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E2C9-F501-4D39-9CDD-0CCE74E21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3979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41000"/>
            <a:ext cx="3979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C087-B5FC-4A56-8F03-18F233480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3616-6D9D-4F2C-BC51-C147F7E7E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-100080"/>
            <a:ext cx="79930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539C-6AF0-4D75-A195-E22AF487D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341000"/>
            <a:ext cx="3979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640" y="403488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BFCD-75AA-4A0C-95FA-541EB54C6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3979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134100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0520" y="403488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BEE2-58A7-400A-AD9D-B0961A207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341000"/>
            <a:ext cx="397944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640" y="4034880"/>
            <a:ext cx="815472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6F3E-8805-4292-97DD-A63E1079B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8760"/>
            <a:ext cx="9140760" cy="6429240"/>
            <a:chOff x="0" y="428760"/>
            <a:chExt cx="9140760" cy="6429240"/>
          </a:xfrm>
        </p:grpSpPr>
        <p:sp>
          <p:nvSpPr>
            <p:cNvPr id="1" name=""/>
            <p:cNvSpPr/>
            <p:nvPr/>
          </p:nvSpPr>
          <p:spPr>
            <a:xfrm>
              <a:off x="885960" y="1125360"/>
              <a:ext cx="8254800" cy="573264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125360"/>
              <a:ext cx="885960" cy="573264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76240" y="1895400"/>
              <a:ext cx="19080" cy="4281480"/>
            </a:xfrm>
            <a:custGeom>
              <a:avLst/>
              <a:gdLst/>
              <a:ahLst/>
              <a:rect l="l" t="t" r="r" b="b"/>
              <a:pathLst>
                <a:path w="12" h="2697">
                  <a:moveTo>
                    <a:pt x="0" y="2697"/>
                  </a:moveTo>
                  <a:lnTo>
                    <a:pt x="12" y="269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697"/>
                  </a:lnTo>
                  <a:lnTo>
                    <a:pt x="0" y="2697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17840" y="1152360"/>
              <a:ext cx="7522920" cy="19080"/>
            </a:xfrm>
            <a:custGeom>
              <a:avLst/>
              <a:gdLst/>
              <a:ahLst/>
              <a:rect l="l" t="t" r="r" b="b"/>
              <a:pathLst>
                <a:path w="4724" h="12">
                  <a:moveTo>
                    <a:pt x="4724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724" y="12"/>
                  </a:lnTo>
                  <a:lnTo>
                    <a:pt x="4724" y="0"/>
                  </a:lnTo>
                  <a:lnTo>
                    <a:pt x="472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240" y="1495440"/>
              <a:ext cx="19080" cy="399960"/>
            </a:xfrm>
            <a:custGeom>
              <a:avLst/>
              <a:gdLst/>
              <a:ahLst/>
              <a:rect l="l" t="t" r="r" b="b"/>
              <a:pathLst>
                <a:path w="12" h="252">
                  <a:moveTo>
                    <a:pt x="0" y="252"/>
                  </a:moveTo>
                  <a:lnTo>
                    <a:pt x="12" y="25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76240" y="428760"/>
              <a:ext cx="19080" cy="399960"/>
            </a:xfrm>
            <a:custGeom>
              <a:avLst/>
              <a:gdLst/>
              <a:ahLst/>
              <a:rect l="l" t="t" r="r" b="b"/>
              <a:pathLst>
                <a:path w="12" h="252">
                  <a:moveTo>
                    <a:pt x="12" y="0"/>
                  </a:moveTo>
                  <a:lnTo>
                    <a:pt x="0" y="0"/>
                  </a:lnTo>
                  <a:lnTo>
                    <a:pt x="0" y="252"/>
                  </a:lnTo>
                  <a:lnTo>
                    <a:pt x="12" y="25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6240" y="82872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15236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7520" y="115236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52600" y="1152360"/>
              <a:ext cx="664920" cy="19080"/>
            </a:xfrm>
            <a:custGeom>
              <a:avLst/>
              <a:gdLst/>
              <a:ahLst/>
              <a:rect l="l" t="t" r="r" b="b"/>
              <a:pathLst>
                <a:path w="418" h="12">
                  <a:moveTo>
                    <a:pt x="0" y="0"/>
                  </a:moveTo>
                  <a:lnTo>
                    <a:pt x="0" y="12"/>
                  </a:lnTo>
                  <a:lnTo>
                    <a:pt x="418" y="12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971640" y="1341000"/>
            <a:ext cx="815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145800" y="6500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2939-65E4-43E6-B0E2-4312BBE9092C}" type="slidenum">
              <a:rPr b="0" lang="en-US" sz="2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/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1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2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8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996920"/>
            <a:ext cx="8026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0" lang="en-US" sz="11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2"/>
          </p:nvPr>
        </p:nvSpPr>
        <p:spPr>
          <a:xfrm>
            <a:off x="2787120" y="657216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6360" y="2276640"/>
            <a:ext cx="6948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eaeaea"/>
                </a:solidFill>
                <a:latin typeface="Tahoma"/>
              </a:rPr>
              <a:t>NI</a:t>
            </a:r>
            <a:r>
              <a:rPr b="0" lang="en-US" sz="10600" spc="-1" strike="noStrike">
                <a:solidFill>
                  <a:srgbClr val="ff0000"/>
                </a:solidFill>
                <a:latin typeface="Tahoma"/>
              </a:rPr>
              <a:t>KH</a:t>
            </a:r>
            <a:r>
              <a:rPr b="0" lang="en-US" sz="10600" spc="-1" strike="noStrike">
                <a:solidFill>
                  <a:srgbClr val="eaeaea"/>
                </a:solidFill>
                <a:latin typeface="Tahoma"/>
              </a:rPr>
              <a:t>EF</a:t>
            </a:r>
            <a:br>
              <a:rPr sz="10600"/>
            </a:br>
            <a:r>
              <a:rPr b="0" lang="en-US" sz="10600" spc="-1" strike="noStrike">
                <a:solidFill>
                  <a:srgbClr val="eaeaea"/>
                </a:solidFill>
                <a:latin typeface="Tahoma"/>
              </a:rPr>
              <a:t>stafoverleg</a:t>
            </a:r>
            <a:endParaRPr b="0" lang="en-US" sz="10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406320" y="374760"/>
            <a:ext cx="58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IKHEF stafoverleg, 18 November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IKHEF, Amsterd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1840" y="1916280"/>
            <a:ext cx="381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November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KHEF stafoverleg, 18 November 2004, Frank Lin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Lokaal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8317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Reisbudget: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baseerd op WP/V, WP/T, PhD bezett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bonden aan maximum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goede monitor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 overschrijding: fiattering reizen via directi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rt budget prestigieus conferentie bezoek (voordrach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3070080"/>
            <a:ext cx="8155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Stationeringen: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l toewijzing onder beheer programmaleid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heveling stationering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izen toege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4295880"/>
            <a:ext cx="815508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PostDoc: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ruimte, VENI, EU, FOm/v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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5229360"/>
            <a:ext cx="83170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Spreekuur: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’ affaires: woensdag van 10:00-12:00 (Eveline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eine affaires: dagelijks bij de koffie of bij de the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tere affaires: op afspraak (Evel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5F8D-4374-46C4-91BB-4A468D84B1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LHC experimentele problemen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125360"/>
            <a:ext cx="815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Kosten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probleme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overleg op NIKHEF (“complete” inventarisatie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overleg op CERN (“awareness”; eventueel naar RRB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gezamenlijke oplossing (binnen programma budget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2852640"/>
            <a:ext cx="831708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Manpower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probleme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Metrologie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meten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ad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uidelijk is welke fysicus analysee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n principe heeft NIKHEF alle expertises in hu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Inzet fysici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ouw LHC detectoren prioriteit over D0/STAR/BaB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ysici: handen uit de mouwen in 2005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Technische manpower problemen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rioriteit voor goedlopende (LHC) project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ijdelijke inhuur extra manpower bespreek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164360" y="4941360"/>
            <a:ext cx="14436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7760-EB41-4E0C-9A85-4433F59F8C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3141360"/>
            <a:ext cx="802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Tahoma"/>
              </a:rPr>
              <a:t>Communicatie</a:t>
            </a:r>
            <a:endParaRPr b="0" lang="en-US" sz="9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KHEF stafoverleg, 18 November 2004, Frank Lin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ommunicatie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155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Jaarverslagen: (2004 Colijn/Tiecke, maart/0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esbaarder, aantrekkelijker &amp; sneller a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26920" y="2347920"/>
            <a:ext cx="8155080" cy="2871720"/>
            <a:chOff x="826920" y="2347920"/>
            <a:chExt cx="8155080" cy="2871720"/>
          </a:xfrm>
        </p:grpSpPr>
        <p:sp>
          <p:nvSpPr>
            <p:cNvPr id="173" name=""/>
            <p:cNvSpPr/>
            <p:nvPr/>
          </p:nvSpPr>
          <p:spPr>
            <a:xfrm>
              <a:off x="826920" y="2347920"/>
              <a:ext cx="815508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Tahoma"/>
                </a:rPr>
                <a:t>Middelbaar onderwijs: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0" i="1" lang="en-US" sz="5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Tahoma"/>
                </a:rPr>
                <a:t>	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HiSparc project</a:t>
              </a:r>
              <a:br>
                <a:rPr sz="2800"/>
              </a:b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(ALTRAN prijs 200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4032360" y="3139920"/>
              <a:ext cx="2771640" cy="207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4786200" y="2490840"/>
            <a:ext cx="4357800" cy="4367160"/>
            <a:chOff x="4786200" y="2490840"/>
            <a:chExt cx="4357800" cy="4367160"/>
          </a:xfrm>
        </p:grpSpPr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6946920" y="2492280"/>
              <a:ext cx="2197080" cy="43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786200" y="2490840"/>
              <a:ext cx="22338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cholierenwedstriij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826920" y="4005360"/>
            <a:ext cx="8155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Algemee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er P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ijdschrifte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adio &amp; TV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6308640"/>
            <a:ext cx="55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Consequentie: 0.4 fte </a:t>
            </a:r>
            <a:r>
              <a:rPr b="0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1.0 f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720" y="106200"/>
            <a:ext cx="506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ffff"/>
                </a:solidFill>
                <a:uFillTx/>
                <a:latin typeface="Tahoma"/>
              </a:rPr>
              <a:t>Last but not lea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FOM/RvB SAF (exp) led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6490-CE52-4096-8E08-984679D0F2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3499920"/>
            <a:ext cx="802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00" spc="-1" strike="noStrike">
                <a:solidFill>
                  <a:srgbClr val="eaeaea"/>
                </a:solidFill>
                <a:latin typeface="Tahoma"/>
              </a:rPr>
              <a:t>Cruciaal komend ½ jaar</a:t>
            </a:r>
            <a:endParaRPr b="0" lang="en-US" sz="8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KHEF stafoverleg, 18 November 2004, Frank Lin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5724360" cy="4176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Astrodeeltjes fysica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724360" y="1052640"/>
            <a:ext cx="3422880" cy="3240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4437000"/>
            <a:ext cx="414036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Sympos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KHEF: 26 April/’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jmegen: 24 September/’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iden: 21 Januari/’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VI: 22 April/’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nationaal voorstel: mei/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995640" y="4270320"/>
            <a:ext cx="5148360" cy="2587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803200" y="1125360"/>
            <a:ext cx="1245960" cy="459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OF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7340-E293-4E0D-906B-AA76EA268B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-100080"/>
            <a:ext cx="8640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ndustrial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artnership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rogram(s)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842000"/>
            <a:ext cx="3995640" cy="18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Naar F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oor discussie: december/’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 IPP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helft 2005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discussie over GRID als I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C26F-9582-4F9F-BB4F-5199060879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IKHEF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ndernemings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aad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8154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WP vertegenwoordig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eilijk jaar voor NIKHE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el interacties met de N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eiging: slechte WP/T - WP/V bal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3213000"/>
            <a:ext cx="815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Mijn we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WP/T li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WP/V l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54000" y="4724280"/>
            <a:ext cx="8155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Ter overweg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ze” toekomst wordt o.a. in de NOR besprok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onze” = met name die van de jonge WP/V generatie!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 dus ook in de NOR mee aan deze discussi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/m morgen bij: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Elly van Kerkhof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of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Gerard E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3652-574B-4828-B02C-A5D65B262F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Vergaderingen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0560" y="1341000"/>
            <a:ext cx="8155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WAR </a:t>
            </a: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 stafoverle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overleg of jamboree voor W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euwe initiatieven: ruim &amp; breed overle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ulen en presentaties op w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23840" y="3213000"/>
          <a:ext cx="7869240" cy="1079640"/>
        </p:xfrm>
        <a:graphic>
          <a:graphicData uri="http://schemas.openxmlformats.org/drawingml/2006/table">
            <a:tbl>
              <a:tblPr/>
              <a:tblGrid>
                <a:gridCol w="1355760"/>
                <a:gridCol w="1112760"/>
                <a:gridCol w="1079640"/>
                <a:gridCol w="1079640"/>
                <a:gridCol w="1008000"/>
                <a:gridCol w="1081080"/>
                <a:gridCol w="1152360"/>
              </a:tblGrid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tafoverle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mbor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/3/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5/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/9/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/11/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mbor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W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/12/0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3/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/5/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/9/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1/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/12/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880920" y="4365720"/>
            <a:ext cx="8155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SA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maal per jaar 2 dagen: 1 dag open &amp; 1 dag beslot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taties (tenzij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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&amp; aanbevelingen op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5805360"/>
            <a:ext cx="8155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NIKHEF bestuursvergade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loten verga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99960" y="422100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oorlopig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068E-38AC-4395-B962-71C254E54F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1916280"/>
            <a:ext cx="5689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eaeaea"/>
                </a:solidFill>
                <a:latin typeface="Tahoma"/>
              </a:rPr>
              <a:t>FOM</a:t>
            </a:r>
            <a:br>
              <a:rPr sz="10600"/>
            </a:br>
            <a:r>
              <a:rPr b="0" lang="en-US" sz="10600" spc="-1" strike="noStrike">
                <a:solidFill>
                  <a:srgbClr val="eaeaea"/>
                </a:solidFill>
                <a:latin typeface="Tahoma"/>
              </a:rPr>
              <a:t>strategie</a:t>
            </a:r>
            <a:br>
              <a:rPr sz="10600"/>
            </a:br>
            <a:r>
              <a:rPr b="0" lang="en-US" sz="10600" spc="-1" strike="noStrike">
                <a:solidFill>
                  <a:srgbClr val="eaeaea"/>
                </a:solidFill>
                <a:latin typeface="Tahoma"/>
              </a:rPr>
              <a:t>notitie</a:t>
            </a:r>
            <a:endParaRPr b="0" lang="en-US" sz="10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KHEF stafoverleg, 18 November 2004, Frank Lin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8353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rioriteit: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”nieuw”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onderzoek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3598920"/>
            <a:ext cx="838836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CERN/LEP programm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gerond;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cellente SAC beoorde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DESY/HERA activiteiten versneld afbouw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ZEUS staf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TARES &amp; AT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ERMES staf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trodeeltjes fy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en nieuwe (PhD, postdoc) aanstellin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441440"/>
            <a:ext cx="84981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Nieuwe” programma’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menten: LHC &amp; astrodeelt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ek: detector R&amp;D &amp;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64000" y="926280"/>
            <a:ext cx="2016000" cy="1302120"/>
            <a:chOff x="5364000" y="926280"/>
            <a:chExt cx="2016000" cy="1302120"/>
          </a:xfrm>
        </p:grpSpPr>
        <p:sp>
          <p:nvSpPr>
            <p:cNvPr id="121" name=""/>
            <p:cNvSpPr/>
            <p:nvPr/>
          </p:nvSpPr>
          <p:spPr>
            <a:xfrm flipH="1">
              <a:off x="5364000" y="1269720"/>
              <a:ext cx="2016000" cy="792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283000">
              <a:off x="5925960" y="155844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theor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283000">
              <a:off x="5604480" y="1172880"/>
              <a:ext cx="140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synerg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71640" y="3502080"/>
            <a:ext cx="792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60840" y="204624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exploitati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9280" y="2565360"/>
            <a:ext cx="71928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0360" y="1270080"/>
            <a:ext cx="0" cy="79200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27440" y="263700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P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6B4B-1347-40F1-AFA5-DE100B2682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Implementatie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125360"/>
            <a:ext cx="8299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NIKHEF/FOM budg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cidentee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 M€: “early retirement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1 M€: behoud technische expert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39760" y="1773360"/>
          <a:ext cx="6095880" cy="15523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iss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756 M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490 M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rogram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44 M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710 M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826920" y="4437000"/>
            <a:ext cx="829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Maatregelen (definitief plan in Jan/2005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“early retirement”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uitdaging: technische infrastructuur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onsolidatie €’s van AMS-IX, Universiteiten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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“kaasschaaf” reizen, stationering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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6238800"/>
            <a:ext cx="8299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Vitaal NIKHEF post-LHC: nieuwe fondsen essenti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740720" y="4292640"/>
            <a:ext cx="0" cy="720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0BDD-76C6-4C63-BEFA-DF75EE9BF9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Fondswerving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Persoonsgebonden subsi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NI–VIDI–VICI (loopt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jectruimte (SAF scoort slech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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425680"/>
            <a:ext cx="799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Nationaal astrodeeltjes fysica programma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amenwerking astronom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oadmap: Mei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3719520"/>
            <a:ext cx="799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Industrial Partnership Program (IP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geleider pixel detector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501660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Euro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T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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440120" y="1557360"/>
            <a:ext cx="1668240" cy="4395600"/>
            <a:chOff x="7440120" y="1557360"/>
            <a:chExt cx="1668240" cy="4395600"/>
          </a:xfrm>
        </p:grpSpPr>
        <p:sp>
          <p:nvSpPr>
            <p:cNvPr id="141" name=""/>
            <p:cNvSpPr/>
            <p:nvPr/>
          </p:nvSpPr>
          <p:spPr>
            <a:xfrm>
              <a:off x="7440120" y="5127480"/>
              <a:ext cx="1668240" cy="82548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2006-200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0.7 M€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85200" y="1557360"/>
              <a:ext cx="1378800" cy="82548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jaarlijks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½ </a:t>
              </a:r>
              <a:r>
                <a:rPr b="0" lang="en-US" sz="24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 1 M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16200000">
            <a:off x="-2234520" y="3654720"/>
            <a:ext cx="49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+ NWO/groot inves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509240" y="2924280"/>
            <a:ext cx="1531080" cy="2020680"/>
            <a:chOff x="7509240" y="2924280"/>
            <a:chExt cx="1531080" cy="2020680"/>
          </a:xfrm>
        </p:grpSpPr>
        <p:sp>
          <p:nvSpPr>
            <p:cNvPr id="145" name=""/>
            <p:cNvSpPr/>
            <p:nvPr/>
          </p:nvSpPr>
          <p:spPr>
            <a:xfrm>
              <a:off x="7509240" y="4119480"/>
              <a:ext cx="153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voorstel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Jan 2005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32280" y="2924280"/>
              <a:ext cx="148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voorstel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Mei 200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39640" y="5952960"/>
            <a:ext cx="8665200" cy="1008360"/>
            <a:chOff x="539640" y="5952960"/>
            <a:chExt cx="8665200" cy="1008360"/>
          </a:xfrm>
        </p:grpSpPr>
        <p:sp>
          <p:nvSpPr>
            <p:cNvPr id="148" name=""/>
            <p:cNvSpPr/>
            <p:nvPr/>
          </p:nvSpPr>
          <p:spPr>
            <a:xfrm>
              <a:off x="539640" y="5952960"/>
              <a:ext cx="7993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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ahoma"/>
                </a:rPr>
                <a:t>Nieuwe FOM programma’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strodeeltjes fysica &amp; Theorie (nationaal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43280" y="6062760"/>
              <a:ext cx="186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voorstellen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ahoma"/>
                </a:rPr>
                <a:t>200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C9DB-D198-48BF-A6B6-EA9A32F641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03640" y="1197000"/>
            <a:ext cx="4140360" cy="57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1197000"/>
            <a:ext cx="417672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VENI-VIDI-VICI (FL):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VENI (1 mei 2005)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. van Vulpen/Atl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. Klous/Gri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. Bouwhuis/Ant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VIDI (13 januari 2005)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VICI (1 april 2005)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. de Jong/KM3N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Laenen/Theori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. Bentvelsen/Atl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Timmermans/Astr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. Schmitz/R&amp;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1197000"/>
            <a:ext cx="4103640" cy="57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-10008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rojectruimte &amp; 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VENI-VIDI-VICI</a:t>
            </a:r>
            <a:endParaRPr b="0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880920" y="1197000"/>
            <a:ext cx="4627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Projectruimte (Gvd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-P. Colijn/ATL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 Filthaut/MI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. de Groot/jok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HCb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I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ctor R&amp;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ID R&amp;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47080" y="558972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&gt;2005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4720" y="595008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004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5240" y="210816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004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600" y="6381720"/>
            <a:ext cx="896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Meld plannen begin december; begin vroeg aan voorst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532A-F682-4AEF-B10A-C9DE32735A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6000" y="3141360"/>
            <a:ext cx="802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Tahoma"/>
              </a:rPr>
              <a:t>Procedures</a:t>
            </a:r>
            <a:endParaRPr b="0" lang="en-US" sz="9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KHEF stafoverleg, 18 November 2004, Frank Lin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07:51:20Z</dcterms:created>
  <dc:creator>Frank Linde</dc:creator>
  <dc:description/>
  <dc:language>en-US</dc:language>
  <cp:lastModifiedBy>Frank Linde</cp:lastModifiedBy>
  <dcterms:modified xsi:type="dcterms:W3CDTF">2004-11-18T14:27:32Z</dcterms:modified>
  <cp:revision>336</cp:revision>
  <dc:subject/>
  <dc:title>Calorimetry</dc:title>
</cp:coreProperties>
</file>