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9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071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CC4D-C124-4A84-9F4B-90440340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64897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2520" y="3977280"/>
            <a:ext cx="64897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E54B-2FBB-41B5-962A-D3D5CEB3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2520" y="397728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8200" y="397728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8386-BA68-4E3D-B9A7-94527F88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6720" y="274320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1280" y="274320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2520" y="397728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6720" y="397728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1280" y="397728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031E-BE62-4C7F-BDB0-4C5B5B6A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7A82-E681-4BA6-93CC-BF6E9E4E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2520" y="2743200"/>
            <a:ext cx="6489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BFA5-82C4-46B2-9302-A564CF63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6489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0A0E-DCC9-4B9F-B58A-56602584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F43C-C6FB-434B-AB1B-42E2DFA3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E536-D0D1-43C3-A2E8-377433F9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47560" y="2028600"/>
            <a:ext cx="6489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B49F-1EE7-4626-BBAA-CAC42BD8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97728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7EF2-09EE-4189-8254-09E06C5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2520" y="2743200"/>
            <a:ext cx="6489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0D93-E127-46C0-8B2B-3E88EFF2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68200" y="397728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78BF-9EB4-48F5-B88F-E4572FEC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42520" y="3977280"/>
            <a:ext cx="64897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CA4B-D962-4F28-9C71-7FE18B81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64897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442520" y="3977280"/>
            <a:ext cx="64897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05D9-3024-4B5D-87F3-EA3337AF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442520" y="397728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68200" y="397728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A035-9E09-412F-A718-96189F94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636720" y="274320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831280" y="274320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442520" y="397728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636720" y="397728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831280" y="3977280"/>
            <a:ext cx="208944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6051-6759-4851-871D-29D6EE42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6489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5B00-BC66-4AE0-B823-7EBD009B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6151-BC2C-46EE-8FAD-94B6987E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7FA9-BE02-444D-8566-64C27CD2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028600"/>
            <a:ext cx="6489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20FC-3EFF-4CDE-BFD3-3B39B0F7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2520" y="397728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6808-8402-4B0F-A8E3-E36A26E2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8200" y="397728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AD72-BCC9-4B32-9477-89399CC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8200" y="2743200"/>
            <a:ext cx="31669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2520" y="3977280"/>
            <a:ext cx="64897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D29D-75AD-40B0-B8F8-BE4E473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028600"/>
            <a:ext cx="6489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2520" y="2743200"/>
            <a:ext cx="6489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51200" indent="-150120">
              <a:lnSpc>
                <a:spcPts val="3197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60720" indent="-207720">
              <a:lnSpc>
                <a:spcPts val="3197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574560" indent="-212040">
              <a:lnSpc>
                <a:spcPts val="3197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02440" indent="-226440">
              <a:lnSpc>
                <a:spcPts val="3197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02440" indent="-226440">
              <a:lnSpc>
                <a:spcPts val="3197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02440" indent="-226440">
              <a:lnSpc>
                <a:spcPts val="3197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8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653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53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13200" y="640044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6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1B70-C9BC-4FCC-845F-5339D762F30F}" type="slidenum">
              <a:rPr b="1" lang="en-US" sz="1000" spc="-1" strike="noStrike">
                <a:solidFill>
                  <a:srgbClr val="00653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2901960" y="6400440"/>
            <a:ext cx="221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653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53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8AB8-5A3B-4147-BCC5-603A2A7BD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20960" y="2367000"/>
            <a:ext cx="7223040" cy="1050840"/>
            <a:chOff x="1920960" y="2367000"/>
            <a:chExt cx="7223040" cy="1050840"/>
          </a:xfrm>
        </p:grpSpPr>
        <p:sp>
          <p:nvSpPr>
            <p:cNvPr id="45" name=""/>
            <p:cNvSpPr/>
            <p:nvPr/>
          </p:nvSpPr>
          <p:spPr>
            <a:xfrm>
              <a:off x="3649680" y="2367000"/>
              <a:ext cx="74520" cy="105084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50200" y="2367000"/>
              <a:ext cx="793800" cy="1050840"/>
            </a:xfrm>
            <a:prstGeom prst="rect">
              <a:avLst/>
            </a:prstGeom>
            <a:solidFill>
              <a:srgbClr val="f94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20960" y="2367000"/>
              <a:ext cx="9360" cy="105084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51080" y="2367000"/>
              <a:ext cx="157320" cy="105084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43320" y="2367000"/>
              <a:ext cx="50760" cy="105084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246720" y="2367000"/>
            <a:ext cx="174600" cy="1050840"/>
          </a:xfrm>
          <a:prstGeom prst="rect">
            <a:avLst/>
          </a:prstGeom>
          <a:solidFill>
            <a:srgbClr val="70b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12880" y="2367000"/>
            <a:ext cx="1303200" cy="1050840"/>
            <a:chOff x="1712880" y="2367000"/>
            <a:chExt cx="1303200" cy="1050840"/>
          </a:xfrm>
        </p:grpSpPr>
        <p:sp>
          <p:nvSpPr>
            <p:cNvPr id="52" name=""/>
            <p:cNvSpPr/>
            <p:nvPr/>
          </p:nvSpPr>
          <p:spPr>
            <a:xfrm>
              <a:off x="1712880" y="2367000"/>
              <a:ext cx="122400" cy="1050840"/>
            </a:xfrm>
            <a:prstGeom prst="rect">
              <a:avLst/>
            </a:prstGeom>
            <a:solidFill>
              <a:srgbClr val="70b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03400" y="2367000"/>
              <a:ext cx="112680" cy="1050840"/>
            </a:xfrm>
            <a:prstGeom prst="rect">
              <a:avLst/>
            </a:prstGeom>
            <a:solidFill>
              <a:srgbClr val="f94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92400" y="2367000"/>
            <a:ext cx="744840" cy="10508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0" y="2367000"/>
            <a:ext cx="7289640" cy="1052280"/>
            <a:chOff x="0" y="2367000"/>
            <a:chExt cx="7289640" cy="1052280"/>
          </a:xfrm>
        </p:grpSpPr>
        <p:sp>
          <p:nvSpPr>
            <p:cNvPr id="56" name=""/>
            <p:cNvSpPr/>
            <p:nvPr/>
          </p:nvSpPr>
          <p:spPr>
            <a:xfrm>
              <a:off x="3719520" y="2367000"/>
              <a:ext cx="274680" cy="105084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34960" y="2367000"/>
              <a:ext cx="34920" cy="105084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440" y="2367000"/>
              <a:ext cx="68400" cy="105084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0" y="2367000"/>
              <a:ext cx="61272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421320" y="2367000"/>
              <a:ext cx="868320" cy="10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754200" y="2367000"/>
            <a:ext cx="7597800" cy="1050840"/>
            <a:chOff x="754200" y="2367000"/>
            <a:chExt cx="7597800" cy="105084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54200" y="2367000"/>
              <a:ext cx="68076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7547040" y="2367000"/>
              <a:ext cx="804960" cy="105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609480" y="2367000"/>
            <a:ext cx="6732720" cy="1050840"/>
            <a:chOff x="609480" y="2367000"/>
            <a:chExt cx="6732720" cy="1050840"/>
          </a:xfrm>
        </p:grpSpPr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3247920" y="2367000"/>
              <a:ext cx="40500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09480" y="2367000"/>
              <a:ext cx="155520" cy="105084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65400" y="2367000"/>
              <a:ext cx="7920" cy="105084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51040" y="2367000"/>
              <a:ext cx="44640" cy="105084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95680" y="2367000"/>
              <a:ext cx="33120" cy="105084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62160" y="2367000"/>
              <a:ext cx="74880" cy="105084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86760" y="2367000"/>
              <a:ext cx="55440" cy="1050840"/>
            </a:xfrm>
            <a:prstGeom prst="rect">
              <a:avLst/>
            </a:prstGeom>
            <a:solidFill>
              <a:srgbClr val="87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340760" y="2367000"/>
            <a:ext cx="1382400" cy="1050840"/>
            <a:chOff x="7340760" y="2367000"/>
            <a:chExt cx="1382400" cy="1050840"/>
          </a:xfrm>
        </p:grpSpPr>
        <p:sp>
          <p:nvSpPr>
            <p:cNvPr id="73" name=""/>
            <p:cNvSpPr/>
            <p:nvPr/>
          </p:nvSpPr>
          <p:spPr>
            <a:xfrm>
              <a:off x="7340760" y="2367000"/>
              <a:ext cx="209520" cy="105084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04360" y="2367000"/>
              <a:ext cx="118800" cy="105084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930320" y="2367000"/>
            <a:ext cx="1328760" cy="1050840"/>
            <a:chOff x="1930320" y="2367000"/>
            <a:chExt cx="1328760" cy="1050840"/>
          </a:xfrm>
        </p:grpSpPr>
        <p:sp>
          <p:nvSpPr>
            <p:cNvPr id="76" name=""/>
            <p:cNvSpPr/>
            <p:nvPr/>
          </p:nvSpPr>
          <p:spPr>
            <a:xfrm>
              <a:off x="3024360" y="2367000"/>
              <a:ext cx="15840" cy="105084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82760" y="2367000"/>
              <a:ext cx="33480" cy="105084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16240" y="2367000"/>
              <a:ext cx="42840" cy="105084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30320" y="2367000"/>
              <a:ext cx="235080" cy="1050840"/>
            </a:xfrm>
            <a:prstGeom prst="rect">
              <a:avLst/>
            </a:prstGeom>
            <a:solidFill>
              <a:srgbClr val="87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469880" y="2367000"/>
            <a:ext cx="3483000" cy="1050840"/>
            <a:chOff x="1469880" y="2367000"/>
            <a:chExt cx="3483000" cy="1050840"/>
          </a:xfrm>
        </p:grpSpPr>
        <p:sp>
          <p:nvSpPr>
            <p:cNvPr id="81" name=""/>
            <p:cNvSpPr/>
            <p:nvPr/>
          </p:nvSpPr>
          <p:spPr>
            <a:xfrm>
              <a:off x="4916520" y="2367000"/>
              <a:ext cx="36360" cy="105084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69880" y="2367000"/>
              <a:ext cx="52560" cy="105084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90840" y="2367000"/>
              <a:ext cx="87120" cy="1050840"/>
            </a:xfrm>
            <a:prstGeom prst="rect">
              <a:avLst/>
            </a:prstGeom>
            <a:solidFill>
              <a:srgbClr val="70b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7960" y="2367000"/>
              <a:ext cx="9720" cy="1050840"/>
            </a:xfrm>
            <a:prstGeom prst="rect">
              <a:avLst/>
            </a:prstGeom>
            <a:solidFill>
              <a:srgbClr val="87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87680" y="2367000"/>
              <a:ext cx="25200" cy="105084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08400" y="2367000"/>
              <a:ext cx="34920" cy="1050840"/>
            </a:xfrm>
            <a:prstGeom prst="rect">
              <a:avLst/>
            </a:prstGeom>
            <a:solidFill>
              <a:srgbClr val="70b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1360" y="2367000"/>
              <a:ext cx="15840" cy="105084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37040" y="2367000"/>
              <a:ext cx="9360" cy="1050840"/>
            </a:xfrm>
            <a:prstGeom prst="rect">
              <a:avLst/>
            </a:prstGeom>
            <a:solidFill>
              <a:srgbClr val="f94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6400" y="2367000"/>
              <a:ext cx="15840" cy="105084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62240" y="2367000"/>
              <a:ext cx="20520" cy="105084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73320" y="2367000"/>
              <a:ext cx="25200" cy="105084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835280" y="2367000"/>
            <a:ext cx="3081240" cy="1050840"/>
            <a:chOff x="1835280" y="2367000"/>
            <a:chExt cx="3081240" cy="1050840"/>
          </a:xfrm>
        </p:grpSpPr>
        <p:sp>
          <p:nvSpPr>
            <p:cNvPr id="93" name=""/>
            <p:cNvSpPr/>
            <p:nvPr/>
          </p:nvSpPr>
          <p:spPr>
            <a:xfrm>
              <a:off x="4735440" y="2367000"/>
              <a:ext cx="79560" cy="105084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28800" y="2367000"/>
              <a:ext cx="42840" cy="105084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73440" y="2367000"/>
              <a:ext cx="7920" cy="105084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97200" y="2367000"/>
              <a:ext cx="22320" cy="105084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9520" y="2367000"/>
              <a:ext cx="74520" cy="105084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4040" y="2367000"/>
              <a:ext cx="9360" cy="105084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16440" y="2367000"/>
              <a:ext cx="100080" cy="105084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835280" y="2367000"/>
              <a:ext cx="415800" cy="1050840"/>
              <a:chOff x="1835280" y="2367000"/>
              <a:chExt cx="415800" cy="1050840"/>
            </a:xfrm>
          </p:grpSpPr>
          <p:sp>
            <p:nvSpPr>
              <p:cNvPr id="101" name=""/>
              <p:cNvSpPr/>
              <p:nvPr/>
            </p:nvSpPr>
            <p:spPr>
              <a:xfrm>
                <a:off x="1835280" y="2367000"/>
                <a:ext cx="86760" cy="1050840"/>
              </a:xfrm>
              <a:prstGeom prst="rect">
                <a:avLst/>
              </a:prstGeom>
              <a:solidFill>
                <a:srgbClr val="4a8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99240" y="2367000"/>
                <a:ext cx="51840" cy="1050840"/>
              </a:xfrm>
              <a:prstGeom prst="rect">
                <a:avLst/>
              </a:prstGeom>
              <a:solidFill>
                <a:srgbClr val="4a8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957240" y="2367000"/>
            <a:ext cx="5292720" cy="1054080"/>
            <a:chOff x="957240" y="2367000"/>
            <a:chExt cx="5292720" cy="1054080"/>
          </a:xfrm>
        </p:grpSpPr>
        <p:pic>
          <p:nvPicPr>
            <p:cNvPr id="104" name="" descr=""/>
            <p:cNvPicPr/>
            <p:nvPr/>
          </p:nvPicPr>
          <p:blipFill>
            <a:blip r:embed="rId8"/>
            <a:stretch/>
          </p:blipFill>
          <p:spPr>
            <a:xfrm>
              <a:off x="4941720" y="2367000"/>
              <a:ext cx="13082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7240" y="2367000"/>
              <a:ext cx="55440" cy="1050840"/>
            </a:xfrm>
            <a:prstGeom prst="rect">
              <a:avLst/>
            </a:prstGeom>
            <a:solidFill>
              <a:srgbClr val="87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94080" y="2367000"/>
              <a:ext cx="156960" cy="105084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16080" y="2367000"/>
              <a:ext cx="8280" cy="105084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0200" y="2367000"/>
              <a:ext cx="21960" cy="105084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9"/>
          <a:srcRect l="0" t="81391" r="0" b="0"/>
          <a:stretch/>
        </p:blipFill>
        <p:spPr>
          <a:xfrm>
            <a:off x="1387440" y="3435480"/>
            <a:ext cx="1922400" cy="257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1447560" y="4566960"/>
            <a:ext cx="6489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4164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1080" algn="ctr">
              <a:lnSpc>
                <a:spcPts val="31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240" indent="181080" algn="ctr">
              <a:lnSpc>
                <a:spcPts val="3197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82520" indent="254160" algn="ctr">
              <a:lnSpc>
                <a:spcPts val="3197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96720" indent="297000" algn="ctr">
              <a:lnSpc>
                <a:spcPts val="3197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96720" indent="297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96720" indent="297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22440" y="1150920"/>
            <a:ext cx="787392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Welkom op het</a:t>
            </a: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11700"/>
            </a:br>
            <a:br>
              <a:rPr sz="11700"/>
            </a:br>
            <a:r>
              <a:rPr b="0" lang="en-US" sz="1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600" spc="-1" strike="noStrike">
                <a:solidFill>
                  <a:srgbClr val="000000"/>
                </a:solidFill>
                <a:latin typeface="Verdana"/>
              </a:rPr>
              <a:t>NI</a:t>
            </a:r>
            <a:r>
              <a:rPr b="0" lang="en-US" sz="15600" spc="-1" strike="noStrike">
                <a:solidFill>
                  <a:srgbClr val="ff0000"/>
                </a:solidFill>
                <a:latin typeface="Verdana"/>
              </a:rPr>
              <a:t>KH</a:t>
            </a:r>
            <a:r>
              <a:rPr b="0" lang="en-US" sz="15600" spc="-1" strike="noStrike">
                <a:solidFill>
                  <a:srgbClr val="000000"/>
                </a:solidFill>
                <a:latin typeface="Verdana"/>
              </a:rPr>
              <a:t>EF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880" y="5781600"/>
            <a:ext cx="84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tionaal Instituut voor Kernfysica en Hoge-Energiefy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9120" cy="7223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iencepark Amsterd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386000" y="0"/>
            <a:ext cx="1927080" cy="1331640"/>
            <a:chOff x="1386000" y="0"/>
            <a:chExt cx="1927080" cy="13316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rcRect l="0" t="81391" r="0" b="0"/>
            <a:stretch/>
          </p:blipFill>
          <p:spPr>
            <a:xfrm>
              <a:off x="1386000" y="1073160"/>
              <a:ext cx="1927080" cy="25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433160" y="0"/>
              <a:ext cx="34560" cy="104760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8080" y="0"/>
              <a:ext cx="52200" cy="104760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0640" y="0"/>
              <a:ext cx="68040" cy="104760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9040" y="0"/>
              <a:ext cx="86760" cy="1047600"/>
            </a:xfrm>
            <a:prstGeom prst="rect">
              <a:avLst/>
            </a:prstGeom>
            <a:solidFill>
              <a:srgbClr val="70b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160" y="0"/>
              <a:ext cx="9360" cy="1047600"/>
            </a:xfrm>
            <a:prstGeom prst="rect">
              <a:avLst/>
            </a:prstGeom>
            <a:solidFill>
              <a:srgbClr val="87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85880" y="0"/>
              <a:ext cx="24840" cy="104760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11080" y="0"/>
              <a:ext cx="122040" cy="1047600"/>
            </a:xfrm>
            <a:prstGeom prst="rect">
              <a:avLst/>
            </a:prstGeom>
            <a:solidFill>
              <a:srgbClr val="70b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19160" y="0"/>
              <a:ext cx="9000" cy="104760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28520" y="0"/>
              <a:ext cx="234720" cy="1047600"/>
            </a:xfrm>
            <a:prstGeom prst="rect">
              <a:avLst/>
            </a:prstGeom>
            <a:solidFill>
              <a:srgbClr val="87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63600" y="0"/>
              <a:ext cx="7560" cy="104760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71520" y="0"/>
              <a:ext cx="24840" cy="104760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833480" y="0"/>
              <a:ext cx="415440" cy="1047600"/>
              <a:chOff x="1833480" y="0"/>
              <a:chExt cx="415440" cy="1047600"/>
            </a:xfrm>
          </p:grpSpPr>
          <p:sp>
            <p:nvSpPr>
              <p:cNvPr id="167" name=""/>
              <p:cNvSpPr/>
              <p:nvPr/>
            </p:nvSpPr>
            <p:spPr>
              <a:xfrm>
                <a:off x="1833480" y="0"/>
                <a:ext cx="86400" cy="1047600"/>
              </a:xfrm>
              <a:prstGeom prst="rect">
                <a:avLst/>
              </a:prstGeom>
              <a:solidFill>
                <a:srgbClr val="4a8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7080" y="0"/>
                <a:ext cx="51840" cy="1047600"/>
              </a:xfrm>
              <a:prstGeom prst="rect">
                <a:avLst/>
              </a:prstGeom>
              <a:solidFill>
                <a:srgbClr val="4a8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249280" y="0"/>
              <a:ext cx="156960" cy="104760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06600" y="0"/>
              <a:ext cx="34560" cy="1047600"/>
            </a:xfrm>
            <a:prstGeom prst="rect">
              <a:avLst/>
            </a:prstGeom>
            <a:solidFill>
              <a:srgbClr val="70b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41520" y="0"/>
              <a:ext cx="50400" cy="104760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2280" y="0"/>
              <a:ext cx="156600" cy="104760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49240" y="0"/>
              <a:ext cx="44280" cy="104760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93880" y="0"/>
              <a:ext cx="3276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7000" y="0"/>
              <a:ext cx="42480" cy="104760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71640" y="0"/>
              <a:ext cx="7560" cy="104760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79560" y="0"/>
              <a:ext cx="15480" cy="104760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95400" y="0"/>
              <a:ext cx="2196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7720" y="0"/>
              <a:ext cx="74160" cy="104760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92240" y="0"/>
              <a:ext cx="900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01600" y="0"/>
              <a:ext cx="112320" cy="1047600"/>
            </a:xfrm>
            <a:prstGeom prst="rect">
              <a:avLst/>
            </a:prstGeom>
            <a:solidFill>
              <a:srgbClr val="f94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14280" y="0"/>
              <a:ext cx="7920" cy="104760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22560" y="0"/>
              <a:ext cx="15480" cy="104760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38400" y="0"/>
              <a:ext cx="21600" cy="104760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60360" y="0"/>
              <a:ext cx="74520" cy="104760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35240" y="0"/>
              <a:ext cx="9000" cy="1047600"/>
            </a:xfrm>
            <a:prstGeom prst="rect">
              <a:avLst/>
            </a:prstGeom>
            <a:solidFill>
              <a:srgbClr val="f94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44600" y="0"/>
              <a:ext cx="1548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60440" y="0"/>
              <a:ext cx="20160" cy="104760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0960" y="0"/>
              <a:ext cx="33120" cy="104760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14440" y="0"/>
              <a:ext cx="4248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rot="19540800">
            <a:off x="-6585120" y="-6184800"/>
            <a:ext cx="17910360" cy="16900560"/>
          </a:xfrm>
          <a:prstGeom prst="donut">
            <a:avLst>
              <a:gd name="adj" fmla="val 38578"/>
            </a:avLst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9508400">
            <a:off x="325080" y="329760"/>
            <a:ext cx="4078440" cy="3863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848640" y="1987560"/>
            <a:ext cx="2125440" cy="4705200"/>
            <a:chOff x="6848640" y="1987560"/>
            <a:chExt cx="2125440" cy="4705200"/>
          </a:xfrm>
        </p:grpSpPr>
        <p:sp>
          <p:nvSpPr>
            <p:cNvPr id="195" name=""/>
            <p:cNvSpPr/>
            <p:nvPr/>
          </p:nvSpPr>
          <p:spPr>
            <a:xfrm>
              <a:off x="8972640" y="1987560"/>
              <a:ext cx="1440" cy="4705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848640" y="3201840"/>
              <a:ext cx="212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848640" y="4035600"/>
              <a:ext cx="212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848640" y="4491000"/>
              <a:ext cx="212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848640" y="6692760"/>
              <a:ext cx="212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908480" y="2443320"/>
              <a:ext cx="1065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908480" y="1987560"/>
              <a:ext cx="1065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848640" y="6237360"/>
              <a:ext cx="2125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69920" y="4795920"/>
            <a:ext cx="88218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drij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trix 1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zamelgebouw voor (startende) bedrij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quasens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viesbureau voor waterkwaliteit, ecologie en mili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eleCity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-location &amp; data-cent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MS-IX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msterdam Internet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9560" y="1379520"/>
            <a:ext cx="88218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Verdana"/>
                <a:ea typeface="Arial Unicode MS"/>
              </a:rPr>
              <a:t>Onderzoek:</a:t>
            </a:r>
            <a:r>
              <a:rPr b="1" lang="nl-NL" sz="1000" spc="-1" strike="noStrike" u="sng">
                <a:solidFill>
                  <a:srgbClr val="000000"/>
                </a:solidFill>
                <a:uFillTx/>
                <a:latin typeface="Verdana"/>
                <a:ea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MOLF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: FOM-instituut voor Atoom en Molecuulfy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WI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: Centrum voor Wiskunde en Infor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NIKHEF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Nationaal Instituut voor Kernfysica en Ho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-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Energiefy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SAR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: SARA Reken- en Netwerk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v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Universiteit van Amster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AP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stituut Anton Panneko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vI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stituut voor Infor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31920" y="0"/>
            <a:ext cx="1927080" cy="1331640"/>
            <a:chOff x="1231920" y="0"/>
            <a:chExt cx="1927080" cy="133164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rcRect l="0" t="81391" r="0" b="0"/>
            <a:stretch/>
          </p:blipFill>
          <p:spPr>
            <a:xfrm>
              <a:off x="1231920" y="1073160"/>
              <a:ext cx="1927080" cy="25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279080" y="0"/>
              <a:ext cx="34560" cy="104760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14000" y="0"/>
              <a:ext cx="52200" cy="104760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66560" y="0"/>
              <a:ext cx="68040" cy="104760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34960" y="0"/>
              <a:ext cx="86760" cy="1047600"/>
            </a:xfrm>
            <a:prstGeom prst="rect">
              <a:avLst/>
            </a:prstGeom>
            <a:solidFill>
              <a:srgbClr val="70b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0"/>
              <a:ext cx="9360" cy="1047600"/>
            </a:xfrm>
            <a:prstGeom prst="rect">
              <a:avLst/>
            </a:prstGeom>
            <a:solidFill>
              <a:srgbClr val="87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31800" y="0"/>
              <a:ext cx="24840" cy="104760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57000" y="0"/>
              <a:ext cx="122040" cy="1047600"/>
            </a:xfrm>
            <a:prstGeom prst="rect">
              <a:avLst/>
            </a:prstGeom>
            <a:solidFill>
              <a:srgbClr val="70b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65080" y="0"/>
              <a:ext cx="9000" cy="104760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74440" y="0"/>
              <a:ext cx="234720" cy="1047600"/>
            </a:xfrm>
            <a:prstGeom prst="rect">
              <a:avLst/>
            </a:prstGeom>
            <a:solidFill>
              <a:srgbClr val="87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09520" y="0"/>
              <a:ext cx="7560" cy="1047600"/>
            </a:xfrm>
            <a:prstGeom prst="rect">
              <a:avLst/>
            </a:prstGeom>
            <a:solidFill>
              <a:srgbClr val="4a8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17440" y="0"/>
              <a:ext cx="24840" cy="104760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679400" y="0"/>
              <a:ext cx="415440" cy="1047600"/>
              <a:chOff x="1679400" y="0"/>
              <a:chExt cx="415440" cy="1047600"/>
            </a:xfrm>
          </p:grpSpPr>
          <p:sp>
            <p:nvSpPr>
              <p:cNvPr id="219" name=""/>
              <p:cNvSpPr/>
              <p:nvPr/>
            </p:nvSpPr>
            <p:spPr>
              <a:xfrm>
                <a:off x="1679400" y="0"/>
                <a:ext cx="86400" cy="1047600"/>
              </a:xfrm>
              <a:prstGeom prst="rect">
                <a:avLst/>
              </a:prstGeom>
              <a:solidFill>
                <a:srgbClr val="4a8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3000" y="0"/>
                <a:ext cx="51840" cy="1047600"/>
              </a:xfrm>
              <a:prstGeom prst="rect">
                <a:avLst/>
              </a:prstGeom>
              <a:solidFill>
                <a:srgbClr val="4a8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095200" y="0"/>
              <a:ext cx="156960" cy="104760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52520" y="0"/>
              <a:ext cx="34560" cy="1047600"/>
            </a:xfrm>
            <a:prstGeom prst="rect">
              <a:avLst/>
            </a:prstGeom>
            <a:solidFill>
              <a:srgbClr val="70b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7440" y="0"/>
              <a:ext cx="50400" cy="1047600"/>
            </a:xfrm>
            <a:prstGeom prst="rect">
              <a:avLst/>
            </a:prstGeom>
            <a:solidFill>
              <a:srgbClr val="b3d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38200" y="0"/>
              <a:ext cx="156600" cy="1047600"/>
            </a:xfrm>
            <a:prstGeom prst="rect">
              <a:avLst/>
            </a:prstGeom>
            <a:solidFill>
              <a:srgbClr val="00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95160" y="0"/>
              <a:ext cx="44280" cy="104760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39800" y="0"/>
              <a:ext cx="3276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72920" y="0"/>
              <a:ext cx="42480" cy="104760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17560" y="0"/>
              <a:ext cx="7560" cy="104760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5480" y="0"/>
              <a:ext cx="15480" cy="104760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41320" y="0"/>
              <a:ext cx="2196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3640" y="0"/>
              <a:ext cx="74160" cy="104760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8160" y="0"/>
              <a:ext cx="900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7520" y="0"/>
              <a:ext cx="112320" cy="1047600"/>
            </a:xfrm>
            <a:prstGeom prst="rect">
              <a:avLst/>
            </a:prstGeom>
            <a:solidFill>
              <a:srgbClr val="f94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60200" y="0"/>
              <a:ext cx="7920" cy="104760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68480" y="0"/>
              <a:ext cx="15480" cy="104760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84320" y="0"/>
              <a:ext cx="21600" cy="1047600"/>
            </a:xfrm>
            <a:prstGeom prst="rect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06280" y="0"/>
              <a:ext cx="74520" cy="104760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81160" y="0"/>
              <a:ext cx="9000" cy="1047600"/>
            </a:xfrm>
            <a:prstGeom prst="rect">
              <a:avLst/>
            </a:prstGeom>
            <a:solidFill>
              <a:srgbClr val="f94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90520" y="0"/>
              <a:ext cx="1548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6360" y="0"/>
              <a:ext cx="20160" cy="1047600"/>
            </a:xfrm>
            <a:prstGeom prst="rect">
              <a:avLst/>
            </a:prstGeom>
            <a:solidFill>
              <a:srgbClr val="fe9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26880" y="0"/>
              <a:ext cx="33120" cy="1047600"/>
            </a:xfrm>
            <a:prstGeom prst="rect">
              <a:avLst/>
            </a:prstGeom>
            <a:solidFill>
              <a:srgbClr val="fe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0360" y="0"/>
              <a:ext cx="42480" cy="1047600"/>
            </a:xfrm>
            <a:prstGeom prst="rect">
              <a:avLst/>
            </a:prstGeom>
            <a:solidFill>
              <a:srgbClr val="f00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9920" y="2614680"/>
            <a:ext cx="8154360" cy="398880"/>
          </a:xfrm>
          <a:prstGeom prst="rect">
            <a:avLst/>
          </a:prstGeom>
          <a:solidFill>
            <a:srgbClr val="3333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Verdana"/>
              </a:rPr>
              <a:t>NIKHEF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Nationaal Instituut voor Kernfysica en Hoge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Energiefy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32240" y="54000"/>
            <a:ext cx="51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Organisati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994200" y="1152360"/>
              <a:ext cx="49352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Verdana"/>
                </a:rPr>
                <a:t>NI</a:t>
              </a:r>
              <a:r>
                <a:rPr b="0" lang="en-US" sz="10600" spc="-1" strike="noStrike">
                  <a:solidFill>
                    <a:srgbClr val="ff0000"/>
                  </a:solidFill>
                  <a:latin typeface="Verdana"/>
                </a:rPr>
                <a:t>KH</a:t>
              </a:r>
              <a:r>
                <a:rPr b="0" lang="en-US" sz="106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1608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87160" y="88920"/>
            <a:ext cx="215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I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KH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7720" y="3733920"/>
            <a:ext cx="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35760" y="3581280"/>
            <a:ext cx="0" cy="273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81080" y="3505320"/>
            <a:ext cx="0" cy="318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06720" y="88920"/>
            <a:ext cx="3130560" cy="758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IKHEF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, RU, UU, UvA, 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0840" y="923760"/>
            <a:ext cx="3130560" cy="621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ientific Advi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ittee (S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55880" y="1682640"/>
            <a:ext cx="3433680" cy="3924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rect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80" y="2227320"/>
            <a:ext cx="3433680" cy="392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ientific council (W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88120" y="2733840"/>
            <a:ext cx="3736800" cy="392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on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3600" y="3394080"/>
            <a:ext cx="2068560" cy="620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43240" y="3394080"/>
            <a:ext cx="2068560" cy="620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ar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0560" y="3395520"/>
            <a:ext cx="2068200" cy="621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9840" y="3395520"/>
            <a:ext cx="2068560" cy="621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" y="4237200"/>
            <a:ext cx="1744560" cy="315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las/D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5600" y="4643280"/>
            <a:ext cx="1744560" cy="316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HCb/Ba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" y="5022720"/>
            <a:ext cx="1744560" cy="316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ce/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" y="5402160"/>
            <a:ext cx="1744560" cy="316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" y="5781600"/>
            <a:ext cx="1744560" cy="316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5600" y="6161040"/>
            <a:ext cx="1744560" cy="316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87640" y="4249800"/>
            <a:ext cx="2577960" cy="2919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chanic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87640" y="4656240"/>
            <a:ext cx="2577960" cy="2919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chanical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87640" y="5035680"/>
            <a:ext cx="2577960" cy="2919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ronic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87640" y="5415120"/>
            <a:ext cx="2577960" cy="2919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er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62800" y="4238640"/>
            <a:ext cx="2581200" cy="315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retariat/Re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62800" y="4645080"/>
            <a:ext cx="2581200" cy="315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ncial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62800" y="5024520"/>
            <a:ext cx="2581200" cy="315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fety 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62800" y="5403960"/>
            <a:ext cx="2581200" cy="315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62800" y="5783400"/>
            <a:ext cx="2581200" cy="315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aff/Project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62800" y="6162840"/>
            <a:ext cx="2581200" cy="315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53" idx="2"/>
            <a:endCxn id="255" idx="0"/>
          </p:cNvCxnSpPr>
          <p:nvPr/>
        </p:nvCxnSpPr>
        <p:spPr>
          <a:xfrm flipH="1" rot="16200000">
            <a:off x="4155120" y="1263960"/>
            <a:ext cx="83556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79" name=""/>
          <p:cNvCxnSpPr>
            <a:stCxn id="255" idx="2"/>
            <a:endCxn id="280" idx="1"/>
          </p:cNvCxnSpPr>
          <p:nvPr/>
        </p:nvCxnSpPr>
        <p:spPr>
          <a:xfrm flipH="1" rot="16200000">
            <a:off x="4822200" y="1825920"/>
            <a:ext cx="336600" cy="834480"/>
          </a:xfrm>
          <a:prstGeom prst="bentConnector2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81" name=""/>
          <p:cNvCxnSpPr>
            <a:stCxn id="255" idx="1"/>
            <a:endCxn id="256" idx="0"/>
          </p:cNvCxnSpPr>
          <p:nvPr/>
        </p:nvCxnSpPr>
        <p:spPr>
          <a:xfrm flipV="1" rot="10800000">
            <a:off x="1735920" y="1879200"/>
            <a:ext cx="1119960" cy="348480"/>
          </a:xfrm>
          <a:prstGeom prst="bentConnector2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82" name=""/>
          <p:cNvCxnSpPr>
            <a:stCxn id="255" idx="2"/>
            <a:endCxn id="258" idx="0"/>
          </p:cNvCxnSpPr>
          <p:nvPr/>
        </p:nvCxnSpPr>
        <p:spPr>
          <a:xfrm rot="5400000">
            <a:off x="2190600" y="1011960"/>
            <a:ext cx="1319760" cy="3445560"/>
          </a:xfrm>
          <a:prstGeom prst="bentConnector3">
            <a:avLst>
              <a:gd name="adj1" fmla="val 89140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83" name=""/>
          <p:cNvCxnSpPr>
            <a:stCxn id="255" idx="2"/>
            <a:endCxn id="259" idx="0"/>
          </p:cNvCxnSpPr>
          <p:nvPr/>
        </p:nvCxnSpPr>
        <p:spPr>
          <a:xfrm rot="5400000">
            <a:off x="3315600" y="2136960"/>
            <a:ext cx="1319760" cy="1195920"/>
          </a:xfrm>
          <a:prstGeom prst="bentConnector3">
            <a:avLst>
              <a:gd name="adj1" fmla="val 89522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84" name=""/>
          <p:cNvCxnSpPr>
            <a:stCxn id="255" idx="2"/>
            <a:endCxn id="261" idx="0"/>
          </p:cNvCxnSpPr>
          <p:nvPr/>
        </p:nvCxnSpPr>
        <p:spPr>
          <a:xfrm flipH="1" rot="16200000">
            <a:off x="5553000" y="1094400"/>
            <a:ext cx="1321200" cy="3282120"/>
          </a:xfrm>
          <a:prstGeom prst="bentConnector3">
            <a:avLst>
              <a:gd name="adj1" fmla="val 89642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85" name=""/>
          <p:cNvCxnSpPr>
            <a:stCxn id="255" idx="2"/>
            <a:endCxn id="260" idx="0"/>
          </p:cNvCxnSpPr>
          <p:nvPr/>
        </p:nvCxnSpPr>
        <p:spPr>
          <a:xfrm flipH="1" rot="16200000">
            <a:off x="4428360" y="2219040"/>
            <a:ext cx="1321200" cy="1032840"/>
          </a:xfrm>
          <a:prstGeom prst="bentConnector3">
            <a:avLst>
              <a:gd name="adj1" fmla="val 89533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19080" y="16081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36080" y="122868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8640" y="159084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54" idx="3"/>
            <a:endCxn id="255" idx="0"/>
          </p:cNvCxnSpPr>
          <p:nvPr/>
        </p:nvCxnSpPr>
        <p:spPr>
          <a:xfrm>
            <a:off x="3281040" y="1234800"/>
            <a:ext cx="1292760" cy="448200"/>
          </a:xfrm>
          <a:prstGeom prst="bentConnector2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90" name=""/>
          <p:cNvCxnSpPr>
            <a:stCxn id="254" idx="3"/>
            <a:endCxn id="253" idx="2"/>
          </p:cNvCxnSpPr>
          <p:nvPr/>
        </p:nvCxnSpPr>
        <p:spPr>
          <a:xfrm flipV="1">
            <a:off x="3281040" y="847440"/>
            <a:ext cx="1291320" cy="388080"/>
          </a:xfrm>
          <a:prstGeom prst="bentConnector2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5407200" y="2214720"/>
            <a:ext cx="3736800" cy="392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loyees council (N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55" idx="2"/>
            <a:endCxn id="257" idx="1"/>
          </p:cNvCxnSpPr>
          <p:nvPr/>
        </p:nvCxnSpPr>
        <p:spPr>
          <a:xfrm flipH="1" rot="16200000">
            <a:off x="4552200" y="2095200"/>
            <a:ext cx="856080" cy="815400"/>
          </a:xfrm>
          <a:prstGeom prst="bentConnector2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92" name=""/>
          <p:cNvSpPr/>
          <p:nvPr/>
        </p:nvSpPr>
        <p:spPr>
          <a:xfrm>
            <a:off x="246240" y="6540480"/>
            <a:ext cx="1744560" cy="316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EUS &amp; HER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4920" y="1571760"/>
            <a:ext cx="2478240" cy="258732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1118880" y="2422440"/>
            <a:ext cx="3991320" cy="2890800"/>
            <a:chOff x="1118880" y="2422440"/>
            <a:chExt cx="3991320" cy="2890800"/>
          </a:xfrm>
        </p:grpSpPr>
        <p:sp>
          <p:nvSpPr>
            <p:cNvPr id="296" name=""/>
            <p:cNvSpPr/>
            <p:nvPr/>
          </p:nvSpPr>
          <p:spPr>
            <a:xfrm flipH="1" rot="11755800">
              <a:off x="1145880" y="2716200"/>
              <a:ext cx="226440" cy="2296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rot="11755800">
              <a:off x="2497680" y="2697840"/>
              <a:ext cx="2335680" cy="23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85200" y="2716920"/>
              <a:ext cx="2272320" cy="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80440" y="2894400"/>
              <a:ext cx="1682280" cy="18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730600" y="3013200"/>
            <a:ext cx="1780920" cy="167472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3246120" y="3937680"/>
            <a:ext cx="2938320" cy="2282040"/>
            <a:chOff x="3246120" y="3937680"/>
            <a:chExt cx="2938320" cy="2282040"/>
          </a:xfrm>
        </p:grpSpPr>
        <p:sp>
          <p:nvSpPr>
            <p:cNvPr id="302" name=""/>
            <p:cNvSpPr/>
            <p:nvPr/>
          </p:nvSpPr>
          <p:spPr>
            <a:xfrm rot="1678200">
              <a:off x="3320640" y="4008240"/>
              <a:ext cx="406080" cy="4197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78200">
              <a:off x="4581000" y="4627440"/>
              <a:ext cx="1366200" cy="1350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64200" y="4360320"/>
              <a:ext cx="1476000" cy="147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09000" y="4024080"/>
              <a:ext cx="1916280" cy="64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538440" y="2772000"/>
            <a:ext cx="3425040" cy="1400760"/>
            <a:chOff x="3538440" y="2772000"/>
            <a:chExt cx="3425040" cy="1400760"/>
          </a:xfrm>
        </p:grpSpPr>
        <p:sp>
          <p:nvSpPr>
            <p:cNvPr id="307" name=""/>
            <p:cNvSpPr/>
            <p:nvPr/>
          </p:nvSpPr>
          <p:spPr>
            <a:xfrm rot="128400">
              <a:off x="5572440" y="2796840"/>
              <a:ext cx="1366200" cy="135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28400">
              <a:off x="3545640" y="3188520"/>
              <a:ext cx="396000" cy="4093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99000" y="3589200"/>
              <a:ext cx="2407680" cy="54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694680" y="2806200"/>
              <a:ext cx="2455560" cy="38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721480" y="2925720"/>
            <a:ext cx="1082160" cy="1080720"/>
            <a:chOff x="5721480" y="2925720"/>
            <a:chExt cx="1082160" cy="1080720"/>
          </a:xfrm>
        </p:grpSpPr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5721480" y="2925720"/>
              <a:ext cx="108216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"/>
            <a:stretch/>
          </p:blipFill>
          <p:spPr>
            <a:xfrm>
              <a:off x="6126120" y="3562200"/>
              <a:ext cx="32328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5"/>
            <a:stretch/>
          </p:blipFill>
          <p:spPr>
            <a:xfrm>
              <a:off x="5883480" y="3117240"/>
              <a:ext cx="323280" cy="3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6"/>
            <a:stretch/>
          </p:blipFill>
          <p:spPr>
            <a:xfrm>
              <a:off x="6358680" y="3178080"/>
              <a:ext cx="32364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"/>
          <p:cNvGrpSpPr/>
          <p:nvPr/>
        </p:nvGrpSpPr>
        <p:grpSpPr>
          <a:xfrm>
            <a:off x="4741920" y="4770360"/>
            <a:ext cx="1041120" cy="1041120"/>
            <a:chOff x="4741920" y="4770360"/>
            <a:chExt cx="1041120" cy="1041120"/>
          </a:xfrm>
        </p:grpSpPr>
        <p:pic>
          <p:nvPicPr>
            <p:cNvPr id="317" name="" descr=""/>
            <p:cNvPicPr/>
            <p:nvPr/>
          </p:nvPicPr>
          <p:blipFill>
            <a:blip r:embed="rId7"/>
            <a:stretch/>
          </p:blipFill>
          <p:spPr>
            <a:xfrm>
              <a:off x="4741920" y="4770360"/>
              <a:ext cx="104112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8"/>
            <a:stretch/>
          </p:blipFill>
          <p:spPr>
            <a:xfrm>
              <a:off x="5328360" y="5022720"/>
              <a:ext cx="323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"/>
            <a:stretch/>
          </p:blipFill>
          <p:spPr>
            <a:xfrm>
              <a:off x="4923720" y="4921920"/>
              <a:ext cx="32364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0"/>
            <a:stretch/>
          </p:blipFill>
          <p:spPr>
            <a:xfrm>
              <a:off x="5075280" y="5346360"/>
              <a:ext cx="323640" cy="32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1" name="" descr=""/>
          <p:cNvPicPr/>
          <p:nvPr/>
        </p:nvPicPr>
        <p:blipFill>
          <a:blip r:embed="rId11"/>
          <a:stretch/>
        </p:blipFill>
        <p:spPr>
          <a:xfrm>
            <a:off x="7997760" y="3470400"/>
            <a:ext cx="870120" cy="8697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2"/>
          <a:stretch/>
        </p:blipFill>
        <p:spPr>
          <a:xfrm>
            <a:off x="6835680" y="5708520"/>
            <a:ext cx="893880" cy="89532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5276160" y="4953960"/>
            <a:ext cx="2863080" cy="2073600"/>
            <a:chOff x="5276160" y="4953960"/>
            <a:chExt cx="2863080" cy="2073600"/>
          </a:xfrm>
        </p:grpSpPr>
        <p:sp>
          <p:nvSpPr>
            <p:cNvPr id="324" name=""/>
            <p:cNvSpPr/>
            <p:nvPr/>
          </p:nvSpPr>
          <p:spPr>
            <a:xfrm rot="1518000">
              <a:off x="5331600" y="5006160"/>
              <a:ext cx="320040" cy="331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518000">
              <a:off x="6600960" y="5501160"/>
              <a:ext cx="1322280" cy="1306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72640" y="5301720"/>
              <a:ext cx="1455840" cy="134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35000" y="5013360"/>
              <a:ext cx="1939320" cy="51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338520" y="3117240"/>
            <a:ext cx="2924640" cy="1597320"/>
            <a:chOff x="6338520" y="3117240"/>
            <a:chExt cx="2924640" cy="1597320"/>
          </a:xfrm>
        </p:grpSpPr>
        <p:sp>
          <p:nvSpPr>
            <p:cNvPr id="329" name=""/>
            <p:cNvSpPr/>
            <p:nvPr/>
          </p:nvSpPr>
          <p:spPr>
            <a:xfrm rot="823200">
              <a:off x="6373080" y="3150360"/>
              <a:ext cx="320040" cy="331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823200">
              <a:off x="7804080" y="3270960"/>
              <a:ext cx="1323000" cy="1305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3466800"/>
              <a:ext cx="1697040" cy="102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44080" y="3151800"/>
              <a:ext cx="20037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48560" y="3909960"/>
            <a:ext cx="1717920" cy="2777040"/>
            <a:chOff x="448560" y="3909960"/>
            <a:chExt cx="1717920" cy="2777040"/>
          </a:xfrm>
        </p:grpSpPr>
        <p:sp>
          <p:nvSpPr>
            <p:cNvPr id="334" name=""/>
            <p:cNvSpPr/>
            <p:nvPr/>
          </p:nvSpPr>
          <p:spPr>
            <a:xfrm flipH="1" rot="15885600">
              <a:off x="1392480" y="3918240"/>
              <a:ext cx="184680" cy="1839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rot="15885600">
              <a:off x="508680" y="5029920"/>
              <a:ext cx="1597680" cy="1578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68880" y="4010040"/>
              <a:ext cx="442800" cy="146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75280" y="3970080"/>
              <a:ext cx="833040" cy="1557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8" name="" descr=""/>
          <p:cNvPicPr/>
          <p:nvPr/>
        </p:nvPicPr>
        <p:blipFill>
          <a:blip r:embed="rId13"/>
          <a:stretch/>
        </p:blipFill>
        <p:spPr>
          <a:xfrm>
            <a:off x="795240" y="5284800"/>
            <a:ext cx="10303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4756320" y="2928960"/>
            <a:ext cx="2089080" cy="2882880"/>
            <a:chOff x="4756320" y="2928960"/>
            <a:chExt cx="2089080" cy="2882880"/>
          </a:xfrm>
        </p:grpSpPr>
        <p:pic>
          <p:nvPicPr>
            <p:cNvPr id="340" name="" descr=""/>
            <p:cNvPicPr/>
            <p:nvPr/>
          </p:nvPicPr>
          <p:blipFill>
            <a:blip r:embed="rId14"/>
            <a:stretch/>
          </p:blipFill>
          <p:spPr>
            <a:xfrm>
              <a:off x="5692680" y="2928960"/>
              <a:ext cx="1152720" cy="11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5"/>
            <a:stretch/>
          </p:blipFill>
          <p:spPr>
            <a:xfrm>
              <a:off x="4756320" y="4755960"/>
              <a:ext cx="1079280" cy="10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3629160" y="-176040"/>
            <a:ext cx="4935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Verdana"/>
              </a:rPr>
              <a:t>NI</a:t>
            </a:r>
            <a:r>
              <a:rPr b="0" lang="en-US" sz="10600" spc="-1" strike="noStrike">
                <a:solidFill>
                  <a:srgbClr val="ff0000"/>
                </a:solidFill>
                <a:latin typeface="Verdana"/>
              </a:rPr>
              <a:t>KH</a:t>
            </a:r>
            <a:r>
              <a:rPr b="0" lang="en-US" sz="10600" spc="-1" strike="noStrike">
                <a:solidFill>
                  <a:srgbClr val="ffffff"/>
                </a:solidFill>
                <a:latin typeface="Verdana"/>
              </a:rPr>
              <a:t>EF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-361800" y="-1352520"/>
            <a:ext cx="9942480" cy="9942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763640" y="317520"/>
            <a:ext cx="4781520" cy="98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29160" y="-176040"/>
            <a:ext cx="4935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Verdana"/>
              </a:rPr>
              <a:t>NI</a:t>
            </a:r>
            <a:r>
              <a:rPr b="0" lang="en-US" sz="10600" spc="-1" strike="noStrike">
                <a:solidFill>
                  <a:srgbClr val="ff0000"/>
                </a:solidFill>
                <a:latin typeface="Verdana"/>
              </a:rPr>
              <a:t>KH</a:t>
            </a:r>
            <a:r>
              <a:rPr b="0" lang="en-US" sz="10600" spc="-1" strike="noStrike">
                <a:solidFill>
                  <a:srgbClr val="ffffff"/>
                </a:solidFill>
                <a:latin typeface="Verdana"/>
              </a:rPr>
              <a:t>EF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2750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629160" y="-176040"/>
            <a:ext cx="4935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Verdana"/>
              </a:rPr>
              <a:t>NI</a:t>
            </a:r>
            <a:r>
              <a:rPr b="0" lang="en-US" sz="10600" spc="-1" strike="noStrike">
                <a:solidFill>
                  <a:srgbClr val="ff0000"/>
                </a:solidFill>
                <a:latin typeface="Verdana"/>
              </a:rPr>
              <a:t>KH</a:t>
            </a:r>
            <a:r>
              <a:rPr b="0" lang="en-US" sz="10600" spc="-1" strike="noStrike">
                <a:solidFill>
                  <a:srgbClr val="ffffff"/>
                </a:solidFill>
                <a:latin typeface="Verdana"/>
              </a:rPr>
              <a:t>EF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3218040"/>
            <a:ext cx="8991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Verdana"/>
              </a:rPr>
              <a:t>SVM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ffff00"/>
                </a:solidFill>
                <a:latin typeface="Verdana"/>
              </a:rPr>
              <a:t>        Marcel Vervo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Stralingshygië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Veiligheid (arbo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Milie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70980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2:30:38Z</dcterms:created>
  <dc:creator>Robert Kamer</dc:creator>
  <dc:description/>
  <dc:language>en-US</dc:language>
  <cp:lastModifiedBy>Frank Linde</cp:lastModifiedBy>
  <cp:lastPrinted>2003-07-07T11:36:42Z</cp:lastPrinted>
  <dcterms:modified xsi:type="dcterms:W3CDTF">2004-11-23T11:40:36Z</dcterms:modified>
  <cp:revision>158</cp:revision>
  <dc:subject/>
  <dc:title>No Slide Title</dc:title>
</cp:coreProperties>
</file>