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3ED-9287-47D3-ACFF-80DBA0AF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48A-82B0-42D2-A2CA-DAF0A855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282-75C0-4B9B-B2E7-5213A592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CC9-1731-4403-899E-27FE741B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488-072E-433E-BEEC-D8BC15AD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DA9-B0D9-49CE-8835-232CED7A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035-8517-448D-8DD3-5FD67B96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227-C0CC-4C01-A438-479E2500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280" y="43920"/>
            <a:ext cx="89647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3DF-64C9-48A4-921F-AEE447F9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021-B7E0-4B25-AE9A-6A24C5CD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34B-5E5A-4509-80DD-38FB1D48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AA7-DED9-4011-B8D7-04F38580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71E7-B122-4EEC-80BE-064FCA36497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hep.ph.ic.ac.uk/e-science/projects/demo/index.html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600" spc="-1" strike="noStrike">
                <a:solidFill>
                  <a:srgbClr val="3333ff"/>
                </a:solidFill>
                <a:latin typeface="Verdana"/>
              </a:rPr>
              <a:t>ICT</a:t>
            </a:r>
            <a:endParaRPr b="0" lang="en-US" sz="20600" spc="-1" strike="noStrike">
              <a:solidFill>
                <a:srgbClr val="3333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029120"/>
            <a:ext cx="91440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Verdana"/>
              </a:rPr>
              <a:t>onderzoeksverkenning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5805360"/>
            <a:ext cx="914400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rank Li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rimair vanuit een IC-technologi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gebruikers persp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Symbol"/>
                <a:ea typeface="Symbol"/>
              </a:rPr>
              <a:t></a:t>
            </a: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onderzoeksmogelijkheden</a:t>
            </a: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8240" y="1095480"/>
            <a:ext cx="8826480" cy="5502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693800" y="2924280"/>
            <a:ext cx="5614920" cy="3313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6310440"/>
            <a:ext cx="91090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GRID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toepass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nformation 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ociety 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T</a:t>
            </a: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echnologies  </a:t>
            </a: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Symbolic manipulations: </a:t>
            </a:r>
            <a:r>
              <a:rPr b="0" i="1" lang="en-US" sz="3600" spc="-1" strike="noStrike">
                <a:solidFill>
                  <a:srgbClr val="ff0000"/>
                </a:solidFill>
                <a:latin typeface="Verdana"/>
              </a:rPr>
              <a:t>FORM</a:t>
            </a: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280" y="1486080"/>
            <a:ext cx="8893440" cy="4679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6310440"/>
            <a:ext cx="91090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RM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generieke symbolisch manip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720" y="44280"/>
            <a:ext cx="819360" cy="14346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Verdana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51640" y="692280"/>
            <a:ext cx="2471760" cy="2376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31240" y="4062240"/>
            <a:ext cx="441864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Ontwikk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Schoonschip”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(Veltm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Mathematica”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(Wolf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FORM”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(Vermase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3333ff"/>
                </a:solidFill>
                <a:latin typeface="Verdana"/>
              </a:rPr>
              <a:t>ICT</a:t>
            </a:r>
            <a:br>
              <a:rPr sz="9500"/>
            </a:br>
            <a:r>
              <a:rPr b="0" i="1" lang="en-US" sz="9500" spc="-1" strike="noStrike">
                <a:solidFill>
                  <a:srgbClr val="ff0000"/>
                </a:solidFill>
                <a:latin typeface="Verdana"/>
              </a:rPr>
              <a:t>“gebruik”</a:t>
            </a:r>
            <a:endParaRPr b="0" lang="en-US" sz="9500" spc="-1" strike="noStrike">
              <a:solidFill>
                <a:srgbClr val="3333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469800" y="6345360"/>
            <a:ext cx="814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nuit hoge-energie fysia (=elementaire deeltjes fysica) perspect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37000"/>
            <a:ext cx="917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Verdana"/>
              </a:rPr>
              <a:t>Data verwerking: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analys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interpretati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resenta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013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Verdana"/>
              </a:rPr>
              <a:t>Simulatie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ktronica, mechanica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interacti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C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5515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Verdana"/>
              </a:rPr>
              <a:t>Virtual instruments, control rooms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bVIEW, VL-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Data analyse: </a:t>
            </a:r>
            <a:r>
              <a:rPr b="0" i="1" lang="en-US" sz="3600" spc="-1" strike="noStrike">
                <a:solidFill>
                  <a:srgbClr val="ff0000"/>
                </a:solidFill>
                <a:latin typeface="Verdana"/>
              </a:rPr>
              <a:t>neural nets</a:t>
            </a: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1280" y="1190520"/>
            <a:ext cx="7993080" cy="5118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4560" y="1670040"/>
            <a:ext cx="10602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66360" y="1843200"/>
            <a:ext cx="114984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92920" y="907920"/>
            <a:ext cx="11851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id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10440"/>
            <a:ext cx="91090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Neural net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self-adaptive analyse algorit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920" y="2039760"/>
            <a:ext cx="4362480" cy="2994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Data analyse: </a:t>
            </a:r>
            <a:r>
              <a:rPr b="0" i="1" lang="en-US" sz="3600" spc="-1" strike="noStrike">
                <a:solidFill>
                  <a:srgbClr val="ff0000"/>
                </a:solidFill>
                <a:latin typeface="Verdana"/>
              </a:rPr>
              <a:t>gebruiksvriendelijk</a:t>
            </a: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4824360" cy="4824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6310440"/>
            <a:ext cx="91090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ROOT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interactief data analyse progra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Simulatie: </a:t>
            </a:r>
            <a:r>
              <a:rPr b="0" i="1" lang="en-US" sz="3600" spc="-1" strike="noStrike">
                <a:solidFill>
                  <a:srgbClr val="ff0000"/>
                </a:solidFill>
                <a:latin typeface="Verdana"/>
              </a:rPr>
              <a:t>elektronica</a:t>
            </a: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310440"/>
            <a:ext cx="91090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gigantische tijd &amp; kosten bespa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Simulatie: </a:t>
            </a:r>
            <a:r>
              <a:rPr b="0" i="1" lang="en-US" sz="3600" spc="-1" strike="noStrike">
                <a:solidFill>
                  <a:srgbClr val="ff0000"/>
                </a:solidFill>
                <a:latin typeface="Verdana"/>
              </a:rPr>
              <a:t>mechanica</a:t>
            </a: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777080" cy="5730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310440"/>
            <a:ext cx="91090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gigantische tijd &amp; kosten bespa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43132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Simulatie: </a:t>
            </a:r>
            <a:r>
              <a:rPr b="0" i="1" lang="en-US" sz="3600" spc="-1" strike="noStrike">
                <a:solidFill>
                  <a:srgbClr val="ff0000"/>
                </a:solidFill>
                <a:latin typeface="Verdana"/>
              </a:rPr>
              <a:t>deeltjes interacties</a:t>
            </a: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6000" y="836640"/>
            <a:ext cx="8748720" cy="5400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71160" y="105264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TRON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40320" y="3284640"/>
            <a:ext cx="74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ELTJES VERSNELLERS &amp; 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5013360"/>
            <a:ext cx="30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SCHE 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310440"/>
            <a:ext cx="91090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GEANT: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simulatie deeltjes interacties in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Virtual reality: </a:t>
            </a:r>
            <a:r>
              <a:rPr b="0" i="1" lang="en-US" sz="3600" spc="-1" strike="noStrike">
                <a:solidFill>
                  <a:srgbClr val="ff0000"/>
                </a:solidFill>
                <a:latin typeface="Verdana"/>
              </a:rPr>
              <a:t>CAVE’s</a:t>
            </a: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310440"/>
            <a:ext cx="91090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gigantische tijd &amp; kosten bespa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9144000" cy="133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080" y="241200"/>
            <a:ext cx="9036000" cy="3341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4920" y="6330960"/>
            <a:ext cx="507672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Virtual” instruments: </a:t>
            </a:r>
            <a:r>
              <a:rPr b="0" i="1" lang="en-US" sz="3600" spc="-1" strike="noStrike">
                <a:solidFill>
                  <a:srgbClr val="ff0000"/>
                </a:solidFill>
                <a:latin typeface="Verdana"/>
              </a:rPr>
              <a:t>LabVIEW</a:t>
            </a: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858960"/>
            <a:ext cx="7524720" cy="5665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6310440"/>
            <a:ext cx="91090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LabVIEW: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grote flexiabi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19844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rtual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310440"/>
            <a:ext cx="918036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onvermijdelijk voor grote international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44280"/>
            <a:ext cx="896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Remot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3333ff"/>
                </a:solidFill>
                <a:latin typeface="Verdana"/>
              </a:rPr>
              <a:t>ICT</a:t>
            </a:r>
            <a:br>
              <a:rPr sz="9500"/>
            </a:br>
            <a:r>
              <a:rPr b="0" i="1" lang="en-US" sz="9500" spc="-1" strike="noStrike">
                <a:solidFill>
                  <a:srgbClr val="ff0000"/>
                </a:solidFill>
                <a:latin typeface="Verdana"/>
              </a:rPr>
              <a:t>“onderzoek”</a:t>
            </a:r>
            <a:endParaRPr b="0" lang="en-US" sz="9500" spc="-1" strike="noStrike">
              <a:solidFill>
                <a:srgbClr val="3333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469800" y="6345360"/>
            <a:ext cx="814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nuit hoge-energie fysia (=elementaire deeltjes fysica) perspect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5600" y="4581360"/>
            <a:ext cx="37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 – GRID -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Informatie flow grote kollaboraties</a:t>
            </a: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60360" y="1508040"/>
            <a:ext cx="8532720" cy="5349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720" y="44280"/>
            <a:ext cx="819360" cy="14346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4440" y="888840"/>
            <a:ext cx="8504280" cy="3764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Gedistribueerde </a:t>
            </a:r>
            <a:r>
              <a:rPr b="0" lang="en-US" sz="3600" spc="-1" strike="noStrike" u="sng">
                <a:solidFill>
                  <a:srgbClr val="3333ff"/>
                </a:solidFill>
                <a:uFillTx/>
                <a:latin typeface="Verdana"/>
              </a:rPr>
              <a:t>informatie</a:t>
            </a: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: </a:t>
            </a:r>
            <a:r>
              <a:rPr b="0" i="1" lang="en-US" sz="3600" spc="-1" strike="noStrike">
                <a:solidFill>
                  <a:srgbClr val="ff0000"/>
                </a:solidFill>
                <a:latin typeface="Verdana"/>
              </a:rPr>
              <a:t>WWW</a:t>
            </a: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8353440" cy="3745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310440"/>
            <a:ext cx="91090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WW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revolution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7640" y="765000"/>
            <a:ext cx="41050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121200" y="836640"/>
            <a:ext cx="598788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440" y="2781360"/>
            <a:ext cx="89535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ekst- &amp; data-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alwetenschappen, bio-informatica, astronomie, hoge-energie fysica, aardobservati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(d.w.z. iederee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3333ff"/>
                </a:solidFill>
                <a:uFillTx/>
                <a:latin typeface="Verdana"/>
              </a:rPr>
              <a:t>Generieke</a:t>
            </a: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 problemen</a:t>
            </a: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627200"/>
            <a:ext cx="89535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Federatie” van databa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ea, industrie, gezondheid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190440" y="4795920"/>
            <a:ext cx="89535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Data opslag &amp; distribu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aciteit, bandwidth, integriteit, security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238800"/>
            <a:ext cx="9132840" cy="57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Het </a:t>
            </a:r>
            <a:r>
              <a:rPr b="0" i="1" lang="en-US" sz="3200" spc="-1" strike="noStrike">
                <a:solidFill>
                  <a:srgbClr val="ffff00"/>
                </a:solidFill>
                <a:latin typeface="Verdana"/>
              </a:rPr>
              <a:t>GRID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generieke aanpak+real test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720" y="44280"/>
            <a:ext cx="819360" cy="14346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Verdana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Gedistribueerde </a:t>
            </a:r>
            <a:r>
              <a:rPr b="0" lang="en-US" sz="3600" spc="-1" strike="noStrike" u="sng">
                <a:solidFill>
                  <a:srgbClr val="3333ff"/>
                </a:solidFill>
                <a:uFillTx/>
                <a:latin typeface="Verdana"/>
              </a:rPr>
              <a:t>computing</a:t>
            </a: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: </a:t>
            </a:r>
            <a:r>
              <a:rPr b="0" i="1" lang="en-US" sz="3600" spc="-1" strike="noStrike">
                <a:solidFill>
                  <a:srgbClr val="ff0000"/>
                </a:solidFill>
                <a:latin typeface="Verdana"/>
              </a:rPr>
              <a:t>GRID</a:t>
            </a: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173240"/>
            <a:ext cx="8532720" cy="556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6310440"/>
            <a:ext cx="91090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GRID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revolution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4999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280" y="-27360"/>
            <a:ext cx="896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L</a:t>
            </a: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HC 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omputing 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rid</a:t>
            </a:r>
            <a:br>
              <a:rPr sz="36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hep.ph.ic.ac.uk/e-science/projects/demo/index.html</a:t>
            </a:r>
            <a:endParaRPr b="0" lang="en-US" sz="1800" spc="-1" strike="noStrike">
              <a:solidFill>
                <a:srgbClr val="3333ff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24000" y="1268280"/>
            <a:ext cx="8496000" cy="4969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6310440"/>
            <a:ext cx="91090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GRID: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eerste stapp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04920" y="1484280"/>
            <a:ext cx="2605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pe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ecur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Verdana"/>
              </a:rPr>
              <a:t>GRID projecten </a:t>
            </a:r>
            <a:r>
              <a:rPr b="0" i="1" lang="en-US" sz="3600" spc="-1" strike="noStrike">
                <a:solidFill>
                  <a:srgbClr val="3333ff"/>
                </a:solidFill>
                <a:latin typeface="Verdana"/>
              </a:rPr>
              <a:t>(selectie)</a:t>
            </a:r>
            <a:endParaRPr b="0" lang="en-US" sz="3600" spc="-1" strike="noStrike">
              <a:solidFill>
                <a:srgbClr val="3333ff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8200" y="1077840"/>
            <a:ext cx="4125960" cy="2638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76720" y="3760920"/>
            <a:ext cx="5553000" cy="2908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38200" y="40622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300640" y="1150920"/>
            <a:ext cx="35290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22:00:01Z</dcterms:created>
  <dc:creator>Frank Linde</dc:creator>
  <dc:description/>
  <dc:language>en-US</dc:language>
  <cp:lastModifiedBy>Frank Linde</cp:lastModifiedBy>
  <dcterms:modified xsi:type="dcterms:W3CDTF">2004-11-09T10:38:35Z</dcterms:modified>
  <cp:revision>19</cp:revision>
  <dc:subject/>
  <dc:title>Slide 1</dc:title>
</cp:coreProperties>
</file>