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E54-A2E2-4AD3-B7B4-2A53518B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924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4091400"/>
            <a:ext cx="7924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FE8-FA7F-4734-A821-83EBCFCF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9760" y="106632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409140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9760" y="409140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70D-1AEC-44DA-BB5F-69E23D32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2551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98440" y="1066320"/>
            <a:ext cx="2551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78280" y="1066320"/>
            <a:ext cx="2551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4091400"/>
            <a:ext cx="2551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98440" y="4091400"/>
            <a:ext cx="2551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78280" y="4091400"/>
            <a:ext cx="2551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D52-646D-421B-8F59-BC649FD3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10663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867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9760" y="1066320"/>
            <a:ext cx="3867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9760" y="1066320"/>
            <a:ext cx="3867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409140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10663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36F-7C16-404F-B769-99DF73D9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867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9760" y="106632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79760" y="409140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9760" y="106632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4091400"/>
            <a:ext cx="7924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924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4091400"/>
            <a:ext cx="7924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9760" y="106632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409140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79760" y="409140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2551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98440" y="1066320"/>
            <a:ext cx="2551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78280" y="1066320"/>
            <a:ext cx="2551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4091400"/>
            <a:ext cx="2551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98440" y="4091400"/>
            <a:ext cx="2551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78280" y="4091400"/>
            <a:ext cx="2551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EAA-ECC9-4EFD-A810-61CCFB57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867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9760" y="1066320"/>
            <a:ext cx="3867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6EE-967B-4294-B2AA-CE8EEF69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EEE-8081-4BEF-93E4-8C9A7731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972-8539-41FA-9E5B-ED57FFB2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9760" y="1066320"/>
            <a:ext cx="3867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409140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384-626A-48CA-B6DB-1633D3C2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867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9760" y="106632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9760" y="409140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2EE-ADE1-4E30-93AB-42952276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9760" y="1066320"/>
            <a:ext cx="38671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091400"/>
            <a:ext cx="7924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473-0A07-4E33-B406-CE8AE72E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amolf.nl/index.html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739d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8960" y="10663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523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33920" y="6400440"/>
            <a:ext cx="3581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-76320" y="4022280"/>
            <a:ext cx="10670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c0c0c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F8AC-F2C2-489B-B51A-EE6D0F97D9D0}" type="slidenum">
              <a:rPr b="1" lang="en-US" sz="1600" spc="-1" strike="noStrike">
                <a:solidFill>
                  <a:srgbClr val="c0c0c0"/>
                </a:solidFill>
                <a:latin typeface="Verdana"/>
              </a:rPr>
              <a:t>&lt;number&gt;</a:t>
            </a:fld>
            <a:r>
              <a:rPr b="1" lang="en-US" sz="1600" spc="-1" strike="noStrike">
                <a:solidFill>
                  <a:srgbClr val="c0c0c0"/>
                </a:solidFill>
                <a:latin typeface="Verdana"/>
              </a:rPr>
              <a:t>/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rcRect l="12691" t="0" r="19574" b="0"/>
          <a:stretch/>
        </p:blipFill>
        <p:spPr>
          <a:xfrm>
            <a:off x="76320" y="1282680"/>
            <a:ext cx="838080" cy="6224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320" y="2208240"/>
            <a:ext cx="838080" cy="5349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76320" y="3059280"/>
            <a:ext cx="838080" cy="3697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 rot="16200000">
            <a:off x="-453960" y="5078880"/>
            <a:ext cx="18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4739d9"/>
                </a:solidFill>
                <a:latin typeface="Verdana"/>
              </a:rPr>
              <a:t>IC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39d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4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5207" r="19532" b="67978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43400" y="497196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15937" r="86806" b="71891"/>
          <a:stretch/>
        </p:blipFill>
        <p:spPr>
          <a:xfrm>
            <a:off x="0" y="5562720"/>
            <a:ext cx="18860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0" y="0"/>
            <a:ext cx="9144000" cy="2286000"/>
            <a:chOff x="0" y="0"/>
            <a:chExt cx="9144000" cy="2286000"/>
          </a:xfrm>
        </p:grpSpPr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248520" y="2133720"/>
              <a:ext cx="28954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0" y="2286000"/>
            <a:ext cx="9144000" cy="2286000"/>
            <a:chOff x="0" y="2286000"/>
            <a:chExt cx="9144000" cy="2286000"/>
          </a:xfrm>
        </p:grpSpPr>
        <p:pic>
          <p:nvPicPr>
            <p:cNvPr id="94" name="" descr=""/>
            <p:cNvPicPr/>
            <p:nvPr/>
          </p:nvPicPr>
          <p:blipFill>
            <a:blip r:embed="rId5"/>
            <a:srcRect l="0" t="5207" r="19532" b="67968"/>
            <a:stretch/>
          </p:blipFill>
          <p:spPr>
            <a:xfrm>
              <a:off x="0" y="2286000"/>
              <a:ext cx="914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6"/>
            <a:srcRect l="10155" t="16666" r="72660" b="34375"/>
            <a:stretch/>
          </p:blipFill>
          <p:spPr>
            <a:xfrm>
              <a:off x="0" y="3581280"/>
              <a:ext cx="91440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7"/>
            <a:srcRect l="0" t="21878" r="88283" b="69503"/>
            <a:stretch/>
          </p:blipFill>
          <p:spPr>
            <a:xfrm>
              <a:off x="0" y="3429000"/>
              <a:ext cx="19321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8"/>
            <a:stretch/>
          </p:blipFill>
          <p:spPr>
            <a:xfrm>
              <a:off x="4495680" y="2590920"/>
              <a:ext cx="3048120" cy="17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1080" y="0"/>
            <a:ext cx="91828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0" spc="-1" strike="noStrike">
                <a:solidFill>
                  <a:srgbClr val="ff0000"/>
                </a:solidFill>
                <a:latin typeface="Arial"/>
              </a:rPr>
              <a:t>ICT</a:t>
            </a:r>
            <a:endParaRPr b="0" lang="en-US" sz="4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739d9"/>
                </a:solidFill>
                <a:latin typeface="Verdana"/>
              </a:rPr>
              <a:t>World Wide Web:</a:t>
            </a: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ropa’s grootste internet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38680" y="-6480"/>
            <a:ext cx="2724120" cy="1225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80160" y="5921280"/>
            <a:ext cx="1241280" cy="91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174080" y="5938920"/>
            <a:ext cx="1893600" cy="88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rcRect l="6567" t="0" r="0" b="0"/>
          <a:stretch/>
        </p:blipFill>
        <p:spPr>
          <a:xfrm>
            <a:off x="1219320" y="5943600"/>
            <a:ext cx="2168280" cy="870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586320" y="5935680"/>
            <a:ext cx="2011320" cy="887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AMS-IX Traffic Statistics - yearly graph"/>
          <p:cNvPicPr/>
          <p:nvPr/>
        </p:nvPicPr>
        <p:blipFill>
          <a:blip r:embed="rId6"/>
          <a:stretch/>
        </p:blipFill>
        <p:spPr>
          <a:xfrm>
            <a:off x="1219320" y="1981080"/>
            <a:ext cx="7772400" cy="376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7A9-8528-47A3-8D17-9467D785CB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739d9"/>
                </a:solidFill>
                <a:latin typeface="Verdana"/>
              </a:rPr>
              <a:t>(Inter)nationale samenwerking</a:t>
            </a: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8153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ussen de FOM instituten: beperk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NCF/NWO mantelcontract bespre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jaarlijkse FOM-ICT netwerkd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incidentele contacten (deze notitie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819520"/>
            <a:ext cx="8153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(Inter)nationaal: prima (grid domin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VL-e project: AMOLF, NIKHEF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EGEE: NIKHEF, SARA, UvA, RC-</a:t>
            </a:r>
            <a:r>
              <a:rPr b="0" i="1" lang="nl-NL" sz="1800" spc="-1" strike="noStrike">
                <a:solidFill>
                  <a:srgbClr val="000000"/>
                </a:solidFill>
                <a:latin typeface="Verdana"/>
              </a:rPr>
              <a:t>Groningen</a:t>
            </a: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LCG: NIKHEF, SARA, RC-</a:t>
            </a:r>
            <a:r>
              <a:rPr b="0" i="1" lang="nl-NL" sz="1800" spc="-1" strike="noStrike">
                <a:solidFill>
                  <a:srgbClr val="000000"/>
                </a:solidFill>
                <a:latin typeface="Verdana"/>
              </a:rPr>
              <a:t>Groningen</a:t>
            </a: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, SURFn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HEPix: ICT experts HEP institu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bijeenkomsten waarin gestreefd wordt naar gemeenschappelijke oplossingen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uitlezing &amp; besturing massaspectrometers, microscopen, deeltjesdetector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83F-6701-4A85-98D0-A953A03D04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739d9"/>
                </a:solidFill>
                <a:latin typeface="Verdana"/>
              </a:rPr>
              <a:t>Trends</a:t>
            </a: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83055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steembeheer: meer value for money/fte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outsourcing; (bijna) alles wordt (vanzelf) be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er interactie ICT’ers &amp; elektronici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FPGAs: “elektronica in softwar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er interactie ICT’ers &amp; fysici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 aandacht voor behoud van de continuïtei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oogwaardige industriële ICT toolkits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LabView, PVSS, Dreamweaver, JAVA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id computing; het nieuwe WWW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amenwerk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NWO: kijk ook naar ASTRON &amp; SRON! (F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grid: een (inter)nationale activiteit/ambi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walificaties typische FOM ICT’ers: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HBO/academisch + </a:t>
            </a: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onderzoeksaffiniteit</a:t>
            </a: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862-483D-4A71-850B-2F857E47A4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739d9"/>
                </a:solidFill>
                <a:latin typeface="Verdana"/>
              </a:rPr>
              <a:t>Knelpunten</a:t>
            </a: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oftware realisatieproces: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moeilijker te structureren dan realisatieproces voor “harde” elektronica &amp; mechanic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lationele database expertise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onvoldoende (Oracle) experti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808080"/>
                </a:solidFill>
                <a:latin typeface="Verdana"/>
              </a:rPr>
              <a:t>Training- &amp; ontwikkelingsmogelijkheid=tij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ergie/housing kosten voor computing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PC: 150 €/jaar; rack met 50 CPUs: 9000 €/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Nieuwe ambities via projectfinanciering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structurele grid-inbedding op termij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middelde leeftijd FOM ICT’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(te) hoog op NIKHEF (46) en Rijnhuizen (47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excellent op AMOLF (35)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4BF-3377-4C57-9720-A6A9103AEE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739d9"/>
                </a:solidFill>
                <a:latin typeface="Verdana"/>
              </a:rPr>
              <a:t>Conclusies</a:t>
            </a: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at ik graag over a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M’s Raad van Bestuur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8E6-F4F7-4F4E-8994-F512A668C2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66680" y="1104840"/>
          <a:ext cx="8001000" cy="5676840"/>
        </p:xfrm>
        <a:graphic>
          <a:graphicData uri="http://schemas.openxmlformats.org/drawingml/2006/table">
            <a:tbl>
              <a:tblPr/>
              <a:tblGrid>
                <a:gridCol w="3353040"/>
                <a:gridCol w="1523880"/>
                <a:gridCol w="17524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O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jnhuiz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KH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embeh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6</a:t>
                      </a: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ment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 compu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0</a:t>
                      </a: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ersen (web, amsI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leidingsnive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BO 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BO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BO 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  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BO 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BO 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  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middelde leeftijd</a:t>
                      </a:r>
                      <a:br>
                        <a:rPr sz="1800"/>
                      </a:b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ja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066680" y="1562040"/>
            <a:ext cx="8001000" cy="685800"/>
          </a:xfrm>
          <a:prstGeom prst="rect">
            <a:avLst/>
          </a:prstGeom>
          <a:gradFill rotWithShape="0">
            <a:gsLst>
              <a:gs pos="0">
                <a:srgbClr val="c0c0c0">
                  <a:alpha val="67058"/>
                </a:srgbClr>
              </a:gs>
              <a:gs pos="100000">
                <a:srgbClr val="585858">
                  <a:alpha val="6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739d9"/>
                </a:solidFill>
                <a:latin typeface="Verdana"/>
              </a:rPr>
              <a:t>Statistieken</a:t>
            </a: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B5D-B0EA-4DF8-9C2D-4E9E8A52B1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739d9"/>
                </a:solidFill>
                <a:latin typeface="Verdana"/>
              </a:rPr>
              <a:t>Systeembeheer</a:t>
            </a: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icrosoft Windows &amp; (Scientific) Lin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beheer m.b.v. externe update serv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laptop belei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Netwerk: excellent dankzij SURFnet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(in 2006 SURFnet6 1 Gb/s </a:t>
            </a:r>
            <a:r>
              <a:rPr b="0" i="1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 10 Gb/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besteden (SARA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supercomputer gebruik (NCF/NWO contra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back-up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op (korte) termijn: lokale file servic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dachtspunt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robuuste server &amp; disk syste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energie consump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39d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739d9"/>
                </a:solidFill>
                <a:latin typeface="Verdana"/>
              </a:rPr>
              <a:t>Trend: steeds meer value for money/fte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467-7FBD-4D9D-A0CB-19A8BC9880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739d9"/>
                </a:solidFill>
                <a:latin typeface="Verdana"/>
              </a:rPr>
              <a:t>Instrumentatie:</a:t>
            </a:r>
            <a:br>
              <a:rPr sz="3600"/>
            </a:br>
            <a:r>
              <a:rPr b="0" i="1" lang="nl-NL" sz="3600" spc="-1" strike="noStrike">
                <a:solidFill>
                  <a:srgbClr val="4739d9"/>
                </a:solidFill>
                <a:latin typeface="Verdana"/>
              </a:rPr>
              <a:t>programmeerbare elektronica</a:t>
            </a: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el programmeerbare hardware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 nauwere samenwerking ICT’ers &amp; elektronici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3657600" cy="2603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52360" y="5715000"/>
            <a:ext cx="368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Field Programmable Gate Array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firmware: VHDL, C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Verdana"/>
              </a:rPr>
              <a:t>software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C,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49320" y="5716440"/>
            <a:ext cx="32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LCs, </a:t>
            </a:r>
            <a:r>
              <a:rPr b="0" lang="nl-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-processoren &amp; DSPs: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Verdana"/>
              </a:rPr>
              <a:t>firmware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C, C++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4114800" cy="25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0AF-A0E4-4281-9759-7001CCDAD9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739d9"/>
                </a:solidFill>
                <a:latin typeface="Verdana"/>
              </a:rPr>
              <a:t>Instrumentatie:</a:t>
            </a:r>
            <a:br>
              <a:rPr sz="3600"/>
            </a:br>
            <a:r>
              <a:rPr b="0" i="1" lang="nl-NL" sz="3600" spc="-1" strike="noStrike">
                <a:solidFill>
                  <a:srgbClr val="4739d9"/>
                </a:solidFill>
                <a:latin typeface="Verdana"/>
              </a:rPr>
              <a:t>laboratorium experimenten</a:t>
            </a: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etinstrumenten &amp; sensor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industriële standaa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specifieke applicaties: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- CANOpen protocol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- zelf ontwikke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14800"/>
            <a:ext cx="5867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ab- &amp; testopstelli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LabView (National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industrieel SCADA systeem</a:t>
            </a:r>
            <a:br>
              <a:rPr sz="2400"/>
            </a:br>
            <a:r>
              <a:rPr b="0" i="1" lang="nl-NL" sz="1800" spc="-1" strike="noStrike">
                <a:solidFill>
                  <a:srgbClr val="000000"/>
                </a:solidFill>
                <a:latin typeface="Verdana"/>
              </a:rPr>
              <a:t>(ontwikkeld voor procesindustrie; b.v. in gebruik bij waterzuiveringsinstallaties; verkeerscontrolesystemen; en ASTRON’s toekomstige LOFAR radiotelesco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3920" y="1905120"/>
            <a:ext cx="2440080" cy="4952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DB7-2E15-48E0-9167-B363B47AA4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19320" y="1392120"/>
            <a:ext cx="7772400" cy="249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7772400" cy="2873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739d9"/>
                </a:solidFill>
                <a:latin typeface="Verdana"/>
              </a:rPr>
              <a:t>Instrumentatie:</a:t>
            </a:r>
            <a:br>
              <a:rPr sz="3600"/>
            </a:br>
            <a:r>
              <a:rPr b="0" i="1" lang="nl-NL" sz="3600" spc="-1" strike="noStrike">
                <a:solidFill>
                  <a:srgbClr val="4739d9"/>
                </a:solidFill>
                <a:latin typeface="Verdana"/>
              </a:rPr>
              <a:t>complete faciliteiten: </a:t>
            </a:r>
            <a:r>
              <a:rPr b="0" i="1" lang="nl-NL" sz="2000" spc="-1" strike="noStrike">
                <a:solidFill>
                  <a:srgbClr val="4739d9"/>
                </a:solidFill>
                <a:latin typeface="Verdana"/>
              </a:rPr>
              <a:t>C, C++, Python, …</a:t>
            </a:r>
            <a:endParaRPr b="0" lang="en-US" sz="20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903-DE91-4419-9304-F5F54DBC11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739d9"/>
                </a:solidFill>
                <a:latin typeface="Verdana"/>
              </a:rPr>
              <a:t>Tools</a:t>
            </a: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rogrammeeromgeving: 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C, C++, …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JAVA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LabView, PVSS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ndaardbibliotheken: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MFC (Windows) &amp; Qt (Windows, Linu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cripting languages: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Perl, Python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b site beheer &amp; web applicaties: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HTML, Dreamweaver, PHP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atabases: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“simpel”: FileMaker Pro, mySQL, …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Verdana"/>
              </a:rPr>
              <a:t>“fancy”: Oracle (onvoldoende expertise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261-1FF6-49AA-A2FB-9D476459E7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739d9"/>
                </a:solidFill>
                <a:latin typeface="Verdana"/>
              </a:rPr>
              <a:t>GRID computing</a:t>
            </a: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215892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158920"/>
            <a:ext cx="3962520" cy="3175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6680" y="1066680"/>
            <a:ext cx="7925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MOLF &amp; NIKHEF: VL-e (BSI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NIKHEF: EGEE (EU) &amp; LCG (CE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53341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id infra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id middleware (security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id applic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802640" y="0"/>
            <a:ext cx="134136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537-8E0C-4B92-AFCF-5430129390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236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236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1083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739d9"/>
                </a:solidFill>
                <a:latin typeface="Verdana"/>
              </a:rPr>
              <a:t>Grid computing</a:t>
            </a:r>
            <a:endParaRPr b="0" lang="en-US" sz="3600" spc="-1" strike="noStrike">
              <a:solidFill>
                <a:srgbClr val="4739d9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4191120" cy="3900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67160" y="2593800"/>
            <a:ext cx="3876840" cy="3892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137160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Grid faciliteit voo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B.V. Nederland 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200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172200" y="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CBE-07CB-4FB1-9059-B9FA2F7EE0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inde</cp:lastModifiedBy>
  <cp:lastPrinted>2009-04-22T19:24:48Z</cp:lastPrinted>
  <dcterms:modified xsi:type="dcterms:W3CDTF">2005-12-06T11:28:32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