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0BD0-80D3-4712-B08A-9362C010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8960" y="1066320"/>
            <a:ext cx="7467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8960" y="4091400"/>
            <a:ext cx="7467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BFC2-1093-486B-8F0B-A5BE8EE3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8960" y="1066320"/>
            <a:ext cx="36439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5400" y="1066320"/>
            <a:ext cx="36439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8960" y="4091400"/>
            <a:ext cx="36439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5400" y="4091400"/>
            <a:ext cx="36439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552C-67A7-4C7D-82F6-8AC7D0B7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8960" y="1066320"/>
            <a:ext cx="24044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44000" y="1066320"/>
            <a:ext cx="24044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9040" y="1066320"/>
            <a:ext cx="24044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8960" y="4091400"/>
            <a:ext cx="24044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44000" y="4091400"/>
            <a:ext cx="24044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9040" y="4091400"/>
            <a:ext cx="24044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96AB-3FE5-4859-924F-C7A94684A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8960" y="1066320"/>
            <a:ext cx="746748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8960" y="1066320"/>
            <a:ext cx="7467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066320"/>
            <a:ext cx="36439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45400" y="1066320"/>
            <a:ext cx="36439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18960" y="1519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8960" y="1066320"/>
            <a:ext cx="36439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5400" y="1066320"/>
            <a:ext cx="36439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18960" y="4091400"/>
            <a:ext cx="36439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8960" y="1066320"/>
            <a:ext cx="746748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2A31-A0E8-4876-B40C-71495EF3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8960" y="1066320"/>
            <a:ext cx="36439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5400" y="1066320"/>
            <a:ext cx="36439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45400" y="4091400"/>
            <a:ext cx="36439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8960" y="1066320"/>
            <a:ext cx="36439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5400" y="1066320"/>
            <a:ext cx="36439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8960" y="4091400"/>
            <a:ext cx="7467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8960" y="1066320"/>
            <a:ext cx="7467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18960" y="4091400"/>
            <a:ext cx="7467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8960" y="1066320"/>
            <a:ext cx="36439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5400" y="1066320"/>
            <a:ext cx="36439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8960" y="4091400"/>
            <a:ext cx="36439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45400" y="4091400"/>
            <a:ext cx="36439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8960" y="1066320"/>
            <a:ext cx="24044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44000" y="1066320"/>
            <a:ext cx="24044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69040" y="1066320"/>
            <a:ext cx="24044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18960" y="4091400"/>
            <a:ext cx="24044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44000" y="4091400"/>
            <a:ext cx="24044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69040" y="4091400"/>
            <a:ext cx="24044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8960" y="1066320"/>
            <a:ext cx="7467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039E-C9DC-486D-A679-9FA6245B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8960" y="1066320"/>
            <a:ext cx="36439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5400" y="1066320"/>
            <a:ext cx="36439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0EA2-3823-4D09-AEFC-8ED5411E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7D6C-05E3-4D76-9A54-81BBE25A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8960" y="1519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6FFE-9836-41CD-9524-03312108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8960" y="1066320"/>
            <a:ext cx="36439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5400" y="1066320"/>
            <a:ext cx="36439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8960" y="4091400"/>
            <a:ext cx="36439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B04F-8572-4920-AA7A-DD7B825F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8960" y="1066320"/>
            <a:ext cx="36439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5400" y="1066320"/>
            <a:ext cx="36439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5400" y="4091400"/>
            <a:ext cx="36439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0460-E993-4261-9653-041477A2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8960" y="1066320"/>
            <a:ext cx="36439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5400" y="1066320"/>
            <a:ext cx="36439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8960" y="4091400"/>
            <a:ext cx="7467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551E-0319-4AF7-A69E-236CA8C1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1066320"/>
            <a:ext cx="7467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235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920" y="6400440"/>
            <a:ext cx="35812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-76320" y="4022280"/>
            <a:ext cx="10670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c0c0c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F4C5-5EC4-44B1-894E-D1E969853E38}" type="slidenum">
              <a:rPr b="1" lang="en-US" sz="1600" spc="-1" strike="noStrike">
                <a:solidFill>
                  <a:srgbClr val="c0c0c0"/>
                </a:solidFill>
                <a:latin typeface="Verdana"/>
              </a:rPr>
              <a:t>&lt;number&gt;</a:t>
            </a:fld>
            <a:r>
              <a:rPr b="1" lang="en-US" sz="1600" spc="-1" strike="noStrike">
                <a:solidFill>
                  <a:srgbClr val="c0c0c0"/>
                </a:solidFill>
                <a:latin typeface="Verdana"/>
              </a:rPr>
              <a:t>/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gridportal.hep.ph.ic.ac.uk/rtm/" TargetMode="External"/><Relationship Id="rId3" Type="http://schemas.openxmlformats.org/officeDocument/2006/relationships/hyperlink" Target="http://gridportal.hep.ph.ic.ac.uk/rtm/" TargetMode="External"/><Relationship Id="rId4" Type="http://schemas.openxmlformats.org/officeDocument/2006/relationships/hyperlink" Target="http://gridportal.hep.ph.ic.ac.uk/rtm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320" y="380880"/>
            <a:ext cx="8991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ff0000"/>
                </a:solidFill>
                <a:latin typeface="Verdana"/>
              </a:rPr>
              <a:t>BIG GRID</a:t>
            </a:r>
            <a:endParaRPr b="0" lang="en-US" sz="129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6320" y="2361960"/>
            <a:ext cx="9067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ichting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tional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mputer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iliteiten (NCF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derland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o-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formatica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ntrum (NBIC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tionaal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stituut voor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rnfysica e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ge-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rgi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sic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(NIKHEF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943600" y="384804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236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Waarom in Nederland?</a:t>
            </a:r>
            <a:endParaRPr b="0" lang="en-US" sz="36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8382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nternet &amp; grid pionier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eidende rol grid ontwikkeling &amp; standaardisat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ost 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Global Grid For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3 Nederlandse leden Grid Forum Steering Gro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d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website ter were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MS-IX: Europa’s grootste Internet Ex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ö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dinatie worldwide grid identity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URFnet: </a:t>
            </a:r>
            <a:r>
              <a:rPr b="0" i="1" lang="nl-NL" sz="2800" spc="-1" strike="noStrike">
                <a:solidFill>
                  <a:srgbClr val="ff0000"/>
                </a:solidFill>
                <a:latin typeface="Verdana"/>
              </a:rPr>
              <a:t>wereldleider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in netwer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Nederland wereldwijd toonaangevend i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io ban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igitaal archie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L-e: een unieke bundeling van kennisinstellingen &amp; bedrijven!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952880"/>
            <a:ext cx="4496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mputational sci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adioastrono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3278-D098-4234-B184-26B835269F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</a:rPr>
              <a:t>BIG GRID!</a:t>
            </a:r>
            <a:endParaRPr b="0" lang="en-US" sz="36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om nu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Uitgelezen kans op het uitbuiten van NL positie van international leadership in e-Sc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Juist nu maximaal effect van de hefboomwerking uit de HEP grid ef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cellente wetenschap door exploitatie van de data-intensieve revolut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4343400"/>
            <a:ext cx="74674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hat if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ederland raakt achterop: achterstand t.o.v. UK e-Science, D-Grid, Grid.IT, en Tera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pschaling in (computational) sciences niet meer in eigen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C7C0-5E4D-4D2D-9C71-1C6B41745D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</a:rPr>
              <a:t>Grid: realisatiekosten over 4 jaar</a:t>
            </a:r>
            <a:endParaRPr b="0" lang="en-US" sz="3600" spc="-1" strike="noStrike">
              <a:solidFill>
                <a:srgbClr val="ff0000"/>
              </a:solidFill>
              <a:latin typeface="Verdan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838080" y="1163520"/>
          <a:ext cx="8229600" cy="5389560"/>
        </p:xfrm>
        <a:graphic>
          <a:graphicData uri="http://schemas.openxmlformats.org/drawingml/2006/table">
            <a:tbl>
              <a:tblPr/>
              <a:tblGrid>
                <a:gridCol w="6553440"/>
                <a:gridCol w="16761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nderde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k€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quipment inves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 6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ploitation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operations, maintenance &amp; housin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 0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entral facilities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 7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quipment inves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 6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ploitation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operations &amp; maintenance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stributed facilities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65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w-latency compute servi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 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erations mana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rid system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elpdesk &amp; sup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ersonnel cos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9 92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6BC9-107C-474E-98C1-F13DF1FA41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</a:rPr>
              <a:t>Motivatie</a:t>
            </a:r>
            <a:endParaRPr b="0" lang="en-US" sz="36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Elementaire deeltjesfysica (HEP)</a:t>
            </a:r>
            <a:br>
              <a:rPr sz="2200"/>
            </a:br>
            <a:r>
              <a:rPr b="0" i="1" lang="nl-NL" sz="2200" spc="-1" strike="noStrike">
                <a:solidFill>
                  <a:srgbClr val="000000"/>
                </a:solidFill>
                <a:latin typeface="Verdana"/>
              </a:rPr>
              <a:t>100% fundamenteel, grid (&amp; www) initia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Astronomie</a:t>
            </a:r>
            <a:br>
              <a:rPr sz="2200"/>
            </a:br>
            <a:r>
              <a:rPr b="0" i="1" lang="nl-NL" sz="2200" spc="-1" strike="noStrike">
                <a:solidFill>
                  <a:srgbClr val="000000"/>
                </a:solidFill>
                <a:latin typeface="Verdana"/>
              </a:rPr>
              <a:t>100% fundamenteel, LOFAR e-telescoo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Bio-science</a:t>
            </a:r>
            <a:br>
              <a:rPr sz="2200"/>
            </a:br>
            <a:r>
              <a:rPr b="0" i="1" lang="nl-NL" sz="2200" spc="-1" strike="noStrike">
                <a:solidFill>
                  <a:srgbClr val="000000"/>
                </a:solidFill>
                <a:latin typeface="Verdana"/>
              </a:rPr>
              <a:t>potentiële doorbraken: </a:t>
            </a:r>
            <a:br>
              <a:rPr sz="2200"/>
            </a:br>
            <a:r>
              <a:rPr b="0" i="1" lang="nl-NL" sz="2200" spc="-1" strike="noStrike">
                <a:solidFill>
                  <a:srgbClr val="000000"/>
                </a:solidFill>
                <a:latin typeface="Verdana"/>
              </a:rPr>
              <a:t>food, agro, health, phar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Alfa- &amp; Gamma wetenschappen</a:t>
            </a:r>
            <a:br>
              <a:rPr sz="2200"/>
            </a:br>
            <a:r>
              <a:rPr b="0" i="1" lang="nl-NL" sz="2200" spc="-1" strike="noStrike">
                <a:solidFill>
                  <a:srgbClr val="000000"/>
                </a:solidFill>
                <a:latin typeface="Verdana"/>
              </a:rPr>
              <a:t>toegankelijkheid: cultuurschatten (KB), </a:t>
            </a:r>
            <a:br>
              <a:rPr sz="2200"/>
            </a:br>
            <a:r>
              <a:rPr b="0" i="1" lang="nl-NL" sz="2200" spc="-1" strike="noStrike">
                <a:solidFill>
                  <a:srgbClr val="000000"/>
                </a:solidFill>
                <a:latin typeface="Verdana"/>
              </a:rPr>
              <a:t>databestanden (DANS), tekst, beeld &amp; gelui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Computational science</a:t>
            </a:r>
            <a:br>
              <a:rPr sz="2200"/>
            </a:br>
            <a:r>
              <a:rPr b="0" i="1" lang="nl-NL" sz="2200" spc="-1" strike="noStrike">
                <a:solidFill>
                  <a:srgbClr val="000000"/>
                </a:solidFill>
                <a:latin typeface="Verdana"/>
              </a:rPr>
              <a:t>klimatologie, theoretische chemie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5410080"/>
            <a:ext cx="7924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Industriële engineering &amp; applicat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Actuele gebruiker: Phil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Potentiële gebruikers: Organon, Shell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4E1E-4F1E-4A86-A0D5-1C8D56EECD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Science cases</a:t>
            </a:r>
            <a:endParaRPr b="0" lang="en-US" sz="36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1143000"/>
            <a:ext cx="7696080" cy="1676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io-science:</a:t>
            </a:r>
            <a:br>
              <a:rPr sz="2800"/>
            </a:br>
            <a:r>
              <a:rPr b="1" i="1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 nieuwe meet- &amp; ICT-technieken: doorbraak potentie op vele fronten - brain imaging, bio-banking, cell tomography, drug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2895480"/>
            <a:ext cx="769608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lfa- en Gammawetenschappen:</a:t>
            </a:r>
            <a:br>
              <a:rPr sz="2800"/>
            </a:br>
            <a:r>
              <a:rPr b="1" i="1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 opslaan, beheren en combineren van steeds grotere databases, en de rekenkracht om hierop analyses uit te vo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4724280"/>
            <a:ext cx="769608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ndustrie:</a:t>
            </a:r>
            <a:br>
              <a:rPr sz="2800"/>
            </a:br>
            <a:r>
              <a:rPr b="1" i="1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 kosten-effectief product-ontwerpproces voor nieuwe instrumenten (of moleculen), veel simulaties en ook hier: datawareho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D04A-5D74-4516-A982-B5E501F5FA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Science cases</a:t>
            </a:r>
            <a:endParaRPr b="0" lang="en-US" sz="36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1143000"/>
            <a:ext cx="7696080" cy="12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limatologie:</a:t>
            </a:r>
            <a:br>
              <a:rPr sz="2800"/>
            </a:b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hogere resolutie - en dus meer data - om belangrijke lokale effecten te analys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2514600"/>
            <a:ext cx="7696080" cy="12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tronomie:</a:t>
            </a:r>
            <a:br>
              <a:rPr sz="2800"/>
            </a:b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data mining en collectie, sensor grids en spin-offs: landbouw, watermanagement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5257800"/>
            <a:ext cx="7696080" cy="12952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meenschappelijke delers:</a:t>
            </a:r>
            <a:br>
              <a:rPr sz="2800"/>
            </a:b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grote, gedistribueerde databases, massieve informatie-extractie, grootschalige simula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3886200"/>
            <a:ext cx="7696080" cy="12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mentaire deeltjesfysica (HEP):</a:t>
            </a:r>
            <a:br>
              <a:rPr sz="2800"/>
            </a:b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naald-in-de-hooiberg analyses, grootschalige simula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DFAB-2CB2-49A9-B4AE-AD5ACCE5D2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133720" y="1066680"/>
            <a:ext cx="5867280" cy="6098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Innovatieve oplossingen</a:t>
            </a:r>
            <a:endParaRPr b="0" lang="en-US" sz="36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id technolog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elen, correleren &amp; bewerken van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nnoverend: “in-silico” design, LOFAR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CT is een deel van het wetenschappelijke instrumentarium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een nieuwe manier van denken in de wetenschappelijke disciplin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geïntegreerde oplossi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niet: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“we produceren data en moeten er iets mee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1143000"/>
            <a:ext cx="5790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en nieuw paradigma voor 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3F7F-0E55-4122-BBB3-F7CC7891D7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Realiseerbaar? </a:t>
            </a:r>
            <a:r>
              <a:rPr b="0" i="1" lang="en-US" sz="3600" spc="-1" strike="noStrike">
                <a:solidFill>
                  <a:srgbClr val="ff0000"/>
                </a:solidFill>
                <a:latin typeface="Verdana"/>
              </a:rPr>
              <a:t>Ja!</a:t>
            </a:r>
            <a:endParaRPr b="0" lang="en-US" sz="36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647712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IKHEF, UvA, SARA &amp; RC-RUG zijn partners in Enabling Grid for E-sciencE (EGE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52520" y="1071720"/>
            <a:ext cx="6648480" cy="5329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rot="16200000">
            <a:off x="-691200" y="3755880"/>
            <a:ext cx="37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ridportal.hep.ph.ic.ac.uk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rt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1156-B6A4-4E22-864C-3699B71F91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10834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Beheersbaar? </a:t>
            </a:r>
            <a:r>
              <a:rPr b="0" i="1" lang="en-US" sz="3600" spc="-1" strike="noStrike">
                <a:solidFill>
                  <a:srgbClr val="ff0000"/>
                </a:solidFill>
                <a:latin typeface="Verdana"/>
              </a:rPr>
              <a:t>Ja!</a:t>
            </a:r>
            <a:endParaRPr b="0" lang="en-US" sz="36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icatieondersteun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rtise: Domain Application Analy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lp desk en operations cent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iforme software sui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kruisbestuiv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ndaarden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lobal Grid For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GEE: 40 disciplin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 één gri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SIK VL-E pro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343400" y="312408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342C-9A21-4D98-8802-2FC685EEC1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Toepasbaar? </a:t>
            </a:r>
            <a:r>
              <a:rPr b="0" i="1" lang="en-US" sz="3600" spc="-1" strike="noStrike">
                <a:solidFill>
                  <a:srgbClr val="ff0000"/>
                </a:solidFill>
                <a:latin typeface="Verdana"/>
              </a:rPr>
              <a:t>Ja!</a:t>
            </a:r>
            <a:endParaRPr b="0" lang="en-US" sz="36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95280" y="4402080"/>
            <a:ext cx="7620120" cy="2455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2640" y="8380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lfa- en Gammawetenschappen:</a:t>
            </a:r>
            <a:br>
              <a:rPr sz="2800"/>
            </a:b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D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io-science:</a:t>
            </a:r>
            <a:br>
              <a:rPr sz="2800"/>
            </a:b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BioAssi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lementaire deeltjesfysica (HEP):</a:t>
            </a:r>
            <a:br>
              <a:rPr sz="2800"/>
            </a:b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LCG project (CERN) realiseert grid prototy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Pan-disciplinair in Nederland: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VL-e methodologie geeft vorm aan Nederlandse e-Science &amp; heeft klankbordfunct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56530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3399"/>
                </a:solidFill>
                <a:latin typeface="Arial"/>
              </a:rPr>
              <a:t>Philips jobs at NIKH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EEA6-721B-4B98-8314-1996553225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Linde</cp:lastModifiedBy>
  <cp:lastPrinted>2009-04-22T19:24:48Z</cp:lastPrinted>
  <dcterms:modified xsi:type="dcterms:W3CDTF">2005-11-24T06:51:13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