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069-F083-4133-A490-1399DEDE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87C-6F34-44EB-A969-A2A75389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4EB-F7E3-4C09-AD2D-BA971BB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ECC-49E1-4479-9E65-0B73A1B8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CD0-CF3F-49EA-8368-5DF5010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612-0971-45B1-815A-00C353AD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506-2C1B-41D8-8178-FBE3F35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5FD-E211-4C67-9887-6793483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E87-1D47-46BA-B65C-0A13DAD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5CB-028A-434D-B7C4-1AA8649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CF5-0D36-4FB5-B5F6-D2D7438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831-38DA-47F4-A3F5-D2280E1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27A-6922-45DE-87BB-9C29B93E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5760" y="1187280"/>
            <a:ext cx="7965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70000"/>
              </a:lnSpc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Times New Roman"/>
              </a:rPr>
              <a:t>MROD-1 softw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Times New Roman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Times New Roman"/>
              </a:rPr>
              <a:t>TigerSHARC in stead of the 2116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FE3-EAD2-40F2-BA76-8F75509F9E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77640" y="365040"/>
            <a:ext cx="8087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Statu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on transition to C++ on the basis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the H8 testbeam. This results in 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 of the software, while optimiz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is no longer hampered by the lack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 in the software written in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H8 software"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gle channel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utput to S-lin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70 kHz max. even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softwa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chann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utput to S-link, extrapolated: 72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ED2-E916-4E33-B683-9C62D57609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07360" y="44280"/>
            <a:ext cx="8390160" cy="66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ODi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nel, MRODout  acting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-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words per TDC: 13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ODi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nels, MRODout acting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ta-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vents (only headers and trailers): 75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ODi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nel, MRODout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link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vents (only headers and trailers): &gt; 104 kHz (even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ted by generato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ODin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nel, MRODout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link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vents (only headers and trailers): 87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RODin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nel, MRODout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-link outpu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events (only headers and trailers): 72 kHz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1 output SHA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MRODout program clearly can be optimized (e.g. chained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or output not yet implemented), further optimization of MROD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rogram also seems to be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20574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1405080"/>
            <a:ext cx="106668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4843440"/>
            <a:ext cx="10666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48240" y="14241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ery recent result in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 kHz to be poss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926-30B6-45B9-B9D2-D7E4BBE8F5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0" y="274680"/>
            <a:ext cx="939204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9999"/>
                </a:solidFill>
                <a:latin typeface="Times New Roman"/>
              </a:rPr>
              <a:t>2.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programmable data generators in laborato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/SW functionality, including error handling /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imulated environment: for debugging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osmic-ray setup: "real-life" testing with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Q chain, setup to be used for MDT test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ed start: 1 Februar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8, 2003 and in combined testbeam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08C-39DC-4AAC-A60E-874C43993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3120" y="380880"/>
            <a:ext cx="879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programmable data generators are 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RODout with appropriate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fixed data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rate up to 130 kHz is possible with correct parity bi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"CSMUX", FPGA 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ragment size per TDC Poisson distribu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of each 256 fragments artificial large to simulate no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igh frequency possible, driven by pulse generat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100 kHz event rates possible. Three generato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, more can be constructed. Errors can be int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ata (not in the present versio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HaSlink (PCI card with prevous generation Sharc) 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oftware as for MRODout is used, but lower rates (~ 75 kH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can be increased if parity bits can be ignored. 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Slink cards are available and can be synchroniz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an MRODout functioning as data gen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C23-A172-4250-ADBF-9F1964788A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0560" y="3219480"/>
            <a:ext cx="741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ossibilities for testing under a variety of condi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being explo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: the data generated by the software generators t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very bursty, which can be helpful to find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ay not show up when testing with identic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s between successive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219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7920" y="441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smic ray setup (5 chambers)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high-rate data generator by lowering threshold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ing at rand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esting the MRODout the MRODins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mulation 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53E-7291-49B3-A5BE-912B840020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09480" y="2819520"/>
          <a:ext cx="7925040" cy="227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92504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731880" y="380880"/>
            <a:ext cx="76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results obtained so far with "CSMUX"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rate (in kHz) for Poisson distributed event size (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words per TDC), truncated at the values indicated).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truncation values the bandwidth of 40 MByte/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between MRODin and MRODout limits the even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B75-9939-4016-9A29-262FC891CF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9120" y="1044720"/>
            <a:ext cx="840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ing resources of the SHARC DSPs used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fficient for sustaining event rates up to 100 kHz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much headroom is left (if any) for other t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Devices has introduced the TigerSHARC as successo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SHARC series. A second generation TigerSHAR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SP-TS20x series, is becoming available. These pro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lock frequencies of 500 / 600 MHz instead of the 8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 for the SHARCs in the MROD-1. In addition a nu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have been made in the architecture an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device compared to the ADSP-21160 used in the MROD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 TigerSHARC has communication links (4 or 2) lik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160, an MROD-2 design based on the TigerSharc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be similar to the MROD-1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7160" y="152280"/>
            <a:ext cx="662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Times New Roman"/>
              </a:rPr>
              <a:t>3. TigerSHARCs in stead of the 2116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C56-5037-4B7E-A0AC-D75CCC3BFC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287760" y="44136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201, TS202, TS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09480" y="142920"/>
          <a:ext cx="8153640" cy="6383160"/>
        </p:xfrm>
        <a:graphic>
          <a:graphicData uri="http://schemas.openxmlformats.org/drawingml/2006/table">
            <a:tbl>
              <a:tblPr/>
              <a:tblGrid>
                <a:gridCol w="2562480"/>
                <a:gridCol w="2720880"/>
                <a:gridCol w="2870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erSHAR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 k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1.5 or .5 M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half du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or 2 full du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link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 dire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yte/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actice: 40 MByte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Byte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 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 parall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handshaking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LVDS pairs per direction, with hand-shaking and optional error detection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-bit checksum per 16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memory bl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dual-ported SRAM, 64-bit wid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 port connected via crossbar to 2 64-bit data busses, other port to peripheral b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 DRAM, 128-bit w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nected via crossbar to 4 128-bit data bus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 boo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via lin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any 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A from/to 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/from external bu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1ED-0A01-4AA6-AC66-DBBCD51C0D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36720" y="228600"/>
            <a:ext cx="7985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caveat: internal pipelines in TigerSHARC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cycle instruction pipeline) than in 21160, could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maller gain in performance than suggested by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lock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for and behavior of TigerSHARC external bus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at of 21160 bus, links are different (signall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MHz  is non-trivial). Getting all details right i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erSHARC based MROD-2 design may prove to be tim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more the experience with the 21160 has show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versions of processors and development software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buggy and also that Analog Devices can be slow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 of relatively bug-free processors. The TS-20x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just coming on the market ("sampling"), and NIKHEF i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customer for Analog Devices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F4A-361D-4A4E-B2B5-8F3B92A7F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45440" y="517680"/>
            <a:ext cx="70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rdered a development kit with two TS-201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the possible gain in performance,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pected in Dec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97360" y="1752480"/>
            <a:ext cx="4560840" cy="470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60A-EA72-4C3B-900C-4623D2744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55480" y="5905440"/>
            <a:ext cx="216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MRODin event fra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ith header sen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MRODout via SHAR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268280"/>
            <a:ext cx="1295280" cy="8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8000" y="1268280"/>
            <a:ext cx="647640" cy="287640"/>
            <a:chOff x="108000" y="1268280"/>
            <a:chExt cx="647640" cy="287640"/>
          </a:xfrm>
        </p:grpSpPr>
        <p:sp>
          <p:nvSpPr>
            <p:cNvPr id="45" name=""/>
            <p:cNvSpPr/>
            <p:nvPr/>
          </p:nvSpPr>
          <p:spPr>
            <a:xfrm>
              <a:off x="179280" y="1555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8000" y="1268280"/>
              <a:ext cx="57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837080" y="0"/>
            <a:ext cx="59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Times New Roman"/>
              </a:rPr>
              <a:t>MRODin software structure (data flow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7200" y="5950080"/>
            <a:ext cx="1800360" cy="66996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3645000"/>
            <a:ext cx="863640" cy="792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563920"/>
            <a:ext cx="129528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8000" y="2637000"/>
            <a:ext cx="647640" cy="287280"/>
            <a:chOff x="108000" y="2637000"/>
            <a:chExt cx="647640" cy="287280"/>
          </a:xfrm>
        </p:grpSpPr>
        <p:sp>
          <p:nvSpPr>
            <p:cNvPr id="52" name=""/>
            <p:cNvSpPr/>
            <p:nvPr/>
          </p:nvSpPr>
          <p:spPr>
            <a:xfrm>
              <a:off x="179280" y="29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000" y="2637000"/>
              <a:ext cx="576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08000" y="4869000"/>
            <a:ext cx="647640" cy="287280"/>
            <a:chOff x="108000" y="4869000"/>
            <a:chExt cx="647640" cy="287280"/>
          </a:xfrm>
        </p:grpSpPr>
        <p:sp>
          <p:nvSpPr>
            <p:cNvPr id="55" name=""/>
            <p:cNvSpPr/>
            <p:nvPr/>
          </p:nvSpPr>
          <p:spPr>
            <a:xfrm>
              <a:off x="179280" y="5156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00" y="4869000"/>
              <a:ext cx="576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258920" y="213192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0500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44370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4508640"/>
            <a:ext cx="5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60360" y="44370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508640"/>
            <a:ext cx="50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0920" y="407664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07664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3429000"/>
            <a:ext cx="6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0920" y="371628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50920" y="436392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78936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29242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920" y="321300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050920" y="285264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2563920"/>
            <a:ext cx="115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ventArrive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30240" y="551664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589720"/>
            <a:ext cx="129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EventDMA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0240" y="551664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6240" y="558972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ventSen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7621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length &amp; i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0346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dat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1371600"/>
            <a:ext cx="576360" cy="1625760"/>
          </a:xfrm>
          <a:prstGeom prst="downArrow">
            <a:avLst>
              <a:gd name="adj1" fmla="val 50000"/>
              <a:gd name="adj2" fmla="val 70518"/>
            </a:avLst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2997360"/>
            <a:ext cx="287280" cy="2663640"/>
          </a:xfrm>
          <a:prstGeom prst="rect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427280" y="5013360"/>
            <a:ext cx="289080" cy="1584000"/>
          </a:xfrm>
          <a:prstGeom prst="rect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371600"/>
            <a:ext cx="576360" cy="1625760"/>
          </a:xfrm>
          <a:prstGeom prst="downArrow">
            <a:avLst>
              <a:gd name="adj1" fmla="val 50000"/>
              <a:gd name="adj2" fmla="val 70518"/>
            </a:avLst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2997360"/>
            <a:ext cx="287280" cy="2663640"/>
          </a:xfrm>
          <a:prstGeom prst="rect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5943600"/>
            <a:ext cx="790560" cy="533520"/>
          </a:xfrm>
          <a:prstGeom prst="downArrow">
            <a:avLst>
              <a:gd name="adj1" fmla="val 43250"/>
              <a:gd name="adj2" fmla="val 50301"/>
            </a:avLst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563920"/>
            <a:ext cx="865440" cy="1009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14600" y="609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14240" y="6165720"/>
            <a:ext cx="1079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1268280"/>
            <a:ext cx="1295280" cy="8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3645000"/>
            <a:ext cx="863640" cy="792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2565360"/>
            <a:ext cx="1295280" cy="187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836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9640" y="2637000"/>
            <a:ext cx="57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213372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28000" y="220500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44370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4508640"/>
            <a:ext cx="5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4370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72360" y="4508640"/>
            <a:ext cx="5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43640" y="407664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407664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3429000"/>
            <a:ext cx="6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443640" y="371628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43640" y="436392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378936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9242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51640" y="321300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651640" y="285264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2565360"/>
            <a:ext cx="115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ventArrive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730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length &amp; i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03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dat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565360"/>
            <a:ext cx="865080" cy="1009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836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59640" y="1341360"/>
            <a:ext cx="57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869000"/>
            <a:ext cx="763272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1041480"/>
            <a:ext cx="0" cy="2286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066680"/>
            <a:ext cx="0" cy="2286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6040" y="533520"/>
            <a:ext cx="46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Times New Roman"/>
              </a:rPr>
              <a:t>Separate data streams from 2 FPGAs via SHARC external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560" y="762120"/>
            <a:ext cx="75960" cy="75960"/>
          </a:xfrm>
          <a:prstGeom prst="line">
            <a:avLst/>
          </a:prstGeom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63120" y="7621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8280" y="613404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Ch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30440" y="5791320"/>
            <a:ext cx="18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locks re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++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35960" y="1600200"/>
            <a:ext cx="67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En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6000" y="1600200"/>
            <a:ext cx="67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En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B26-C36D-474F-AD3D-7DF235232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43200" y="5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400" y="990720"/>
            <a:ext cx="612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while (run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InputManager1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EventBuffermanager1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InputManager2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EventBuffermanager2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OutputManager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ControlManager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840" y="304920"/>
            <a:ext cx="87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normal running and for two active inputs this loop is execu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840" y="3946680"/>
            <a:ext cx="85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 signal fault conditions only and do not occur du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Manager takes care of communication with a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ia the MRODout) and of controlling stat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7680" y="608004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: "process" methods are "inline"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22E-F848-404F-B2A4-A6AD6EEB8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65160" y="76320"/>
            <a:ext cx="4530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data may be overwritten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uffer is not emptied fast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happen in case of an X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ROL or for many larg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ing directly after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vailable buffer siz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DataBuffer drops below a 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an error flag is raised an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skipped (the latter is no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). Halting the transf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data from the FPGA to the SH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s at first sight attractive, as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more buffer spac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ZBT RAM. However, recov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an overflow in the ZBT RAM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by skipping events in a cont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y, as is possible for prev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flow in the buffer in the SHAR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B: in the MROD-1 it is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lt the transfer of event data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PGA to the SHARC temporari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68280"/>
            <a:ext cx="1295280" cy="8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8000" y="1268280"/>
            <a:ext cx="647640" cy="287640"/>
            <a:chOff x="108000" y="1268280"/>
            <a:chExt cx="647640" cy="287640"/>
          </a:xfrm>
        </p:grpSpPr>
        <p:sp>
          <p:nvSpPr>
            <p:cNvPr id="133" name=""/>
            <p:cNvSpPr/>
            <p:nvPr/>
          </p:nvSpPr>
          <p:spPr>
            <a:xfrm>
              <a:off x="179280" y="1555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8000" y="1268280"/>
              <a:ext cx="57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700360" y="3645000"/>
            <a:ext cx="863640" cy="792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563920"/>
            <a:ext cx="129528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8000" y="2637000"/>
            <a:ext cx="647640" cy="287280"/>
            <a:chOff x="108000" y="2637000"/>
            <a:chExt cx="647640" cy="287280"/>
          </a:xfrm>
        </p:grpSpPr>
        <p:sp>
          <p:nvSpPr>
            <p:cNvPr id="138" name=""/>
            <p:cNvSpPr/>
            <p:nvPr/>
          </p:nvSpPr>
          <p:spPr>
            <a:xfrm>
              <a:off x="179280" y="29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000" y="2637000"/>
              <a:ext cx="576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58920" y="213192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20500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4370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4508640"/>
            <a:ext cx="503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60360" y="44370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508640"/>
            <a:ext cx="50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50920" y="407664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407664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3429000"/>
            <a:ext cx="6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050920" y="371628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050920" y="4363920"/>
            <a:ext cx="649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378936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(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292428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0920" y="321300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050920" y="2852640"/>
            <a:ext cx="1441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2563920"/>
            <a:ext cx="115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ventArrive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7621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length &amp; i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8823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event dat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1219320"/>
            <a:ext cx="576360" cy="1778040"/>
          </a:xfrm>
          <a:prstGeom prst="downArrow">
            <a:avLst>
              <a:gd name="adj1" fmla="val 50000"/>
              <a:gd name="adj2" fmla="val 77124"/>
            </a:avLst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563920"/>
            <a:ext cx="865440" cy="1009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066680"/>
            <a:ext cx="0" cy="2286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5960" y="1600200"/>
            <a:ext cx="67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En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0A5-5D0B-4412-B82E-41511DA33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2225520"/>
            <a:ext cx="0" cy="609840"/>
          </a:xfrm>
          <a:prstGeom prst="line">
            <a:avLst/>
          </a:prstGeom>
          <a:ln w="284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31112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225520"/>
            <a:ext cx="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7080" y="161604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835360"/>
            <a:ext cx="11430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835360"/>
            <a:ext cx="838080" cy="13716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7760" y="283536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8320" y="283536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987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9844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2900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339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18120" y="2835360"/>
            <a:ext cx="838080" cy="13716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26040" y="283536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913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1008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2835360"/>
            <a:ext cx="11430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306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43240" y="2987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31200" y="2225520"/>
            <a:ext cx="0" cy="609840"/>
          </a:xfrm>
          <a:prstGeom prst="line">
            <a:avLst/>
          </a:prstGeom>
          <a:ln w="284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31112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225520"/>
            <a:ext cx="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840" y="161604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87840"/>
            <a:ext cx="7391160" cy="68580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3400" y="283536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2680" y="47401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2736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5929200"/>
            <a:ext cx="23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fragment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sent to 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1400" y="2606760"/>
            <a:ext cx="146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ivePointerToFree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spaceRequi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133360" y="306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054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968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60" y="37180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proc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60" y="4632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proc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4720" y="37180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proc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153280" y="4054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02040" y="43131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Available(stream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3240" y="4160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PointerTo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6440" y="431316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6280" y="41608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61560" y="43131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Available(stream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3080" y="2225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0760" y="2225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3600" y="14400"/>
            <a:ext cx="61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Times New Roman"/>
              </a:rPr>
              <a:t>MRODOut software structure (data flow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5800" y="3808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09560" y="5791320"/>
            <a:ext cx="18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locks re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++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21280" y="2606760"/>
            <a:ext cx="146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ivePointerToFree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spaceRequi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66480" y="41734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PointerTo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2286000" y="-136800"/>
            <a:ext cx="457200" cy="2895840"/>
          </a:xfrm>
          <a:custGeom>
            <a:avLst/>
            <a:gdLst>
              <a:gd name="textAreaLeft" fmla="*/ 0 w 457200"/>
              <a:gd name="textAreaRight" fmla="*/ 164880 w 4572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680" y="71604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a one SHARC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499080" y="-166320"/>
            <a:ext cx="457200" cy="2895480"/>
          </a:xfrm>
          <a:custGeom>
            <a:avLst/>
            <a:gdLst>
              <a:gd name="textAreaLeft" fmla="*/ 0 w 457200"/>
              <a:gd name="textAreaRight" fmla="*/ 164880 w 4572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3560" y="685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a one SHARC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638680"/>
            <a:ext cx="1447560" cy="914400"/>
          </a:xfrm>
          <a:prstGeom prst="rect">
            <a:avLst/>
          </a:prstGeom>
          <a:noFill/>
          <a:ln w="28440">
            <a:solidFill>
              <a:srgbClr val="008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0840" y="569916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3400" y="525780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DMA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11840" y="52578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EventS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3440" y="5257800"/>
            <a:ext cx="145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Ch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, at 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256 words per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98400" y="380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084560" y="1020600"/>
            <a:ext cx="441360" cy="533520"/>
          </a:xfrm>
          <a:custGeom>
            <a:avLst/>
            <a:gdLst>
              <a:gd name="textAreaLeft" fmla="*/ 0 w 441360"/>
              <a:gd name="textAreaRight" fmla="*/ 159480 w 4413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694040" y="1020600"/>
            <a:ext cx="441360" cy="533160"/>
          </a:xfrm>
          <a:custGeom>
            <a:avLst/>
            <a:gdLst>
              <a:gd name="textAreaLeft" fmla="*/ 0 w 441360"/>
              <a:gd name="textAreaRight" fmla="*/ 159480 w 4413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779-E709-4AA9-9501-255DC967C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889280" y="105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59160" y="1646280"/>
            <a:ext cx="536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while (run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InputManager1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InputManager2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InputManager3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OutputManager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eControlManager.pro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6360" y="685800"/>
            <a:ext cx="80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normal running and for three active inputs a loop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main loop of the MRODin is execu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9280" y="4479840"/>
            <a:ext cx="816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 signal fault conditions only and do not occur du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Manager takes care of communication with the c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 and of controlling stat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3DE-9E21-4226-A0AC-AB5588320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2225520"/>
            <a:ext cx="0" cy="609840"/>
          </a:xfrm>
          <a:prstGeom prst="line">
            <a:avLst/>
          </a:prstGeom>
          <a:ln w="284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31112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2225520"/>
            <a:ext cx="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7080" y="161604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835360"/>
            <a:ext cx="11430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2835360"/>
            <a:ext cx="838080" cy="13716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7760" y="283536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8320" y="283536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987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844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2900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733920" y="4206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11400" y="2606760"/>
            <a:ext cx="146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ivePointerToFree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spaceRequi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133360" y="306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054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02040" y="43131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Available(stream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3240" y="416088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PointerTo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36440" y="431316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Even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3080" y="2225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286000" y="-136800"/>
            <a:ext cx="457200" cy="2895840"/>
          </a:xfrm>
          <a:custGeom>
            <a:avLst/>
            <a:gdLst>
              <a:gd name="textAreaLeft" fmla="*/ 0 w 457200"/>
              <a:gd name="textAreaRight" fmla="*/ 164880 w 4572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040" y="71604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a one SHARC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240" y="228600"/>
            <a:ext cx="4112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MA for transfer of e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only start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space in the buff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(14.4 kByte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t max. 100 words per T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18 TDCs per CSM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s across a SHA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re subject to handsh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event data canno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is possib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help of fixe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A transfers or endless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rieval of the leng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id information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B4C-F5D1-49F7-BB30-F74C75FB44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71040" y="685800"/>
            <a:ext cx="818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ODout: at max. 256 words can be transferred a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to the S-link, as the FIFO in the S-link interface h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256 words. A write attempt to a full FIFO will resul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ll of the external bus until there is place agai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FO. There is a flag signalling that the FIFO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n the basis of this flag blocks of at max. 256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afely transfer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normal conditions the data leave the FIFO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peed (160 MByte/s) as they enter the FIFO. Howe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XOFF on the ROL will cause the FIFO to fill (this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last summer in the H8 testbeam, as a resulting bus 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communication between the crate controll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RODout and may result in a VME-bus erro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5AB-C22A-4618-948F-87F6C1198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5360" y="76320"/>
            <a:ext cx="8821800" cy="64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Operationa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ARCs are booted via the VME-bus, the MRODout SH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via their internal memory, the MRODin SHARCs via 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. All can, after booting, communicate with a serv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on the crate controller, which provides support for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le I/O. These facilities cannot be used for high rate data-ta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re very useful for debugging and for error repo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ual DSP++ environment running under Windows is need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ompiling and linking and producing loadable files.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an environment simulating SHARC and FPGA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has proven to be very useful for initial 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bugging and for bug hunting. This is done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OS X or Windows with the Metrowerks Codewarrior 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ing its debugging and code navigation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ROD IDR 12 Nov. 2003 / J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95F-92D9-44A3-9C44-850D57EFC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6:21:12Z</dcterms:created>
  <dc:creator>Jos Vermeulen</dc:creator>
  <dc:description/>
  <dc:language>en-US</dc:language>
  <cp:lastModifiedBy>Jos Vermeulen</cp:lastModifiedBy>
  <cp:lastPrinted>2003-11-10T15:55:24Z</cp:lastPrinted>
  <dcterms:modified xsi:type="dcterms:W3CDTF">2003-11-12T09:37:18Z</dcterms:modified>
  <cp:revision>51</cp:revision>
  <dc:subject/>
  <dc:title>PowerPoint Presentation</dc:title>
</cp:coreProperties>
</file>