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9907588" cy="6767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B87-AA0C-413D-A76F-BDAF5929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0CE-DBE9-46E9-959C-E89EC4F5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0F4-B54B-416B-906C-AEB26C38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56E-8329-4A3F-A92A-B3CB1606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063-A12D-41CA-9EE8-AD96E202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B7F-9418-41EF-AE4F-998CDE6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385-33CB-448C-8B81-E66E9F4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1F1-7405-426D-84CB-D5C710F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8AB-5A88-40D8-9325-548DFFE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D7D-C722-4C5A-94CC-8241101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F64-D1BE-4593-88A1-12171AD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696-FCB2-4179-A4AC-3F97407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CD8-F90C-4F3A-B09E-94B4E316A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R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ad Out Driver for the ATLAS MDT Muon Precision Cha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8420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ello Barisonzi, Henk Boterenbrood, Rutger van der Eijk, Peter Jansweijer, Gerard Kief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Vermeu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KHEF, Amster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riaan 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öni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rles Timmermans, Thei Wij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KHEF and Univ. of Nijmegen, Nijm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F98-E1A7-42DE-9B4C-30895B8F10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ROD-1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totyp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e MROD-1 is conceived as the first full size, full speed MROD prototype, with 6 input channels (extendable to 8 input channel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ROD-1 is built around a number of Analog Devices ADSP21160 “SHARC” DSP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is DSP has 6 half-duplex 40/80 Mbyte/s SHARC-links. Data transfers take place under DMA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e MROD-1 design relies heavily on the use of these SHARC-l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4F2-F450-4914-8186-4FAE3BDC45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ROD-1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totyp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dular design with three dual-input sections (MROD-ins) and one output section (MROD-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ROD-ins are daughter boards on MROD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in non-DSP components of the MROD-1 are FPGAs (and memo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ff6600"/>
                </a:solidFill>
                <a:latin typeface="Times New Roman"/>
              </a:rPr>
              <a:t>(for details see the presentation by Peter Jansweij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ring normal operation (i.e. in the absence of errors) the FPGAs (and memories) guarantee the speedy operation of the MROD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e DSPs take care of errors and exce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DA0-C15C-498B-8D5B-FC1158BC98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24120" y="0"/>
            <a:ext cx="2838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OD-1 Prot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MROD1FrontLinksSmall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6172200" cy="59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EEE-28E6-4594-9613-60E082FCFB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OD-out 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MROD_Out_CompSide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60228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D15-F2E5-46BE-8EDC-9A8227A985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-22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OD-in 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MROD_In_CompSide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6275520" cy="2724120"/>
          </a:xfrm>
          <a:prstGeom prst="rect">
            <a:avLst/>
          </a:prstGeom>
          <a:ln w="0">
            <a:noFill/>
          </a:ln>
        </p:spPr>
      </p:pic>
      <p:pic>
        <p:nvPicPr>
          <p:cNvPr id="237" name="MROD_In_SoldSide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321600" cy="27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E36-4B60-48FD-B5BE-2FBEE92BD0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ROD-1 in H8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stalled MROD equip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 9U VME64x crate with special P3 back plane for TTCrx Interface Module (TI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 MROD-1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 Crate Controller Processor (Linu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 TTCrx Interface Module (TI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932-C1A7-4F1A-9A7D-158C499291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crate in H8 (200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360" y="2971800"/>
            <a:ext cx="836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9360" y="3124080"/>
            <a:ext cx="8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-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2971800"/>
            <a:ext cx="836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2760" y="312408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TCr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5440" y="1295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 Bu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2590920"/>
            <a:ext cx="7924680" cy="0"/>
          </a:xfrm>
          <a:prstGeom prst="line">
            <a:avLst/>
          </a:prstGeom>
          <a:ln w="255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024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03880" y="1600200"/>
            <a:ext cx="930240" cy="3263760"/>
            <a:chOff x="4403880" y="1600200"/>
            <a:chExt cx="930240" cy="3263760"/>
          </a:xfrm>
        </p:grpSpPr>
        <p:sp>
          <p:nvSpPr>
            <p:cNvPr id="249" name=""/>
            <p:cNvSpPr/>
            <p:nvPr/>
          </p:nvSpPr>
          <p:spPr>
            <a:xfrm>
              <a:off x="4648320" y="1600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4640" y="2971800"/>
              <a:ext cx="80640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54640" y="312408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R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753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8229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942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0418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1344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0224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3880" y="4495680"/>
              <a:ext cx="92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CS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041800" y="1981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822920" y="2590920"/>
              <a:ext cx="0" cy="38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617220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248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8000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00200" y="1828440"/>
            <a:ext cx="0" cy="114300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219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5520" y="22096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ME-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8200" y="44956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TC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5520" y="26668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-bu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52388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278520" y="1600200"/>
            <a:ext cx="929520" cy="3263760"/>
            <a:chOff x="3278520" y="1600200"/>
            <a:chExt cx="929520" cy="3263760"/>
          </a:xfrm>
        </p:grpSpPr>
        <p:sp>
          <p:nvSpPr>
            <p:cNvPr id="271" name=""/>
            <p:cNvSpPr/>
            <p:nvPr/>
          </p:nvSpPr>
          <p:spPr>
            <a:xfrm>
              <a:off x="3522600" y="160020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8920" y="2971800"/>
              <a:ext cx="80604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28920" y="312408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R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5496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9720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76848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91608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9877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47652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8520" y="4495680"/>
              <a:ext cx="92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CS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916080" y="19810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697200" y="2590920"/>
              <a:ext cx="0" cy="38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296-7211-4174-AEF1-F6ED744AD1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in H8 (start-u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a few errors (bugs) had to be corrected  in the software of the SHARC DSPs. Most bugs were related to the internal MROD-1 buffer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s with bad conn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y implementation of MROD-Busy signal was needed due to the unexpectedly low speed of the H8 read out system (the R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(!) single error was found in the FPGA code (firmware) of the MROD-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C84-AA00-4FE3-B4CE-7B2202EFDA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DSCN0018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BD7-E72A-4BF5-AACB-1CC32F64A53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in H8 (summa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OD-1 start-up saw various problems, some of which were due to bugs and bad connections in the MROD-1 itself, some due to the down stream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ome weeks of painstakingly testing and debugging, the MROD-1 eventually ran stably and millions of events have been collected on a routine basis with a typical rate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BB6-0225-4BBB-8673-2844E161A0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OD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OD-1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step (MROD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20C-788A-4CE5-B6D3-7135535B3D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-1 throughput (data and trigger rates) could not be tested in H8 due to limitations of the set-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to assess the MROD-1 has been launched at NIKHE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M output data is externally emulated in software or can be generated by dedicated CSM-like hardware. The simulated data is injected in the MROD-1 via optical links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is effort is ongoing and is intimately related to the optimization of the SHARC soft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details and the latest results see the presentation by Jos Vermeu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25F-631C-4E4C-9F23-CCCCE0F9C7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-1 Implementation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Gigabit Optical Link (GOL): One-way optical connection which nicely the matches the required bandwidth (19*40 Mbit/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ve use of SHARC DSPs: MROD-1 relies heavily on SHARC-links for internal data-transfer. Moreover SHARC offers easy adaptability, flexibility and testability. FPGA does not have to deal with errors and exception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TTC Interface Module (TIM) by U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FC3-985A-4AAE-98F5-CB3C4A234A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xt MROD (MRO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-2 will be fully integrated, i.e. it will  consist of one single PCB VME64x module, without any daughter boards (except for the S-Link output). This eliminates a large number of connectors and thus reduces cost and enhances reliabi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L receiver logic will be integrated in the MROD-in FP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-2 will have 4 MROD-ins (hence 8 inpu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next MROD may use a next generation DSP, the TigerSHAR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AA7-D615-4EBC-A61B-286933E24C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a" descr=""/>
          <p:cNvPicPr/>
          <p:nvPr/>
        </p:nvPicPr>
        <p:blipFill>
          <a:blip r:embed="rId1"/>
          <a:stretch/>
        </p:blipFill>
        <p:spPr>
          <a:xfrm>
            <a:off x="0" y="0"/>
            <a:ext cx="9656640" cy="6296040"/>
          </a:xfrm>
          <a:prstGeom prst="rect">
            <a:avLst/>
          </a:prstGeom>
          <a:ln w="0">
            <a:noFill/>
          </a:ln>
        </p:spPr>
      </p:pic>
      <p:pic>
        <p:nvPicPr>
          <p:cNvPr id="47" name="atlas0000" descr=""/>
          <p:cNvPicPr/>
          <p:nvPr/>
        </p:nvPicPr>
        <p:blipFill>
          <a:blip r:embed="rId2"/>
          <a:stretch/>
        </p:blipFill>
        <p:spPr>
          <a:xfrm>
            <a:off x="577800" y="380880"/>
            <a:ext cx="3406680" cy="317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26080" y="380880"/>
            <a:ext cx="480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80880"/>
            <a:ext cx="5413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LAS MDT Muon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.000 Drift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72 MDT Cha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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owers of 5-8 Chamb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B78-F44D-4A19-B315-A718B31CE1E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600" y="3352680"/>
            <a:ext cx="83880" cy="30492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276720"/>
            <a:ext cx="19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– 8  cha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1295280"/>
            <a:ext cx="1344600" cy="434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54800" y="3276720"/>
            <a:ext cx="1030320" cy="144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60440" y="3505320"/>
            <a:ext cx="18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0 MBytes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-Link to R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3268800"/>
            <a:ext cx="71100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7440" y="2201760"/>
            <a:ext cx="213516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9040" y="3649680"/>
            <a:ext cx="71100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9040" y="4030560"/>
            <a:ext cx="71100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81040" y="128736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71560" y="1211400"/>
            <a:ext cx="3246480" cy="1904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23840" y="2506680"/>
            <a:ext cx="1505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ch.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1760" y="1592280"/>
            <a:ext cx="3967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4440" y="1363680"/>
            <a:ext cx="102852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05080" y="1973160"/>
            <a:ext cx="79200" cy="30492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4760" y="19447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7621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6280" y="91440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97440" y="4792680"/>
            <a:ext cx="213516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9040" y="2887560"/>
            <a:ext cx="71100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4640" y="1820880"/>
            <a:ext cx="110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78320" y="1820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M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8320" y="44118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M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30600" y="479268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G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06920" y="220176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GOL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23840" y="1363680"/>
            <a:ext cx="1505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ch.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1760" y="2735280"/>
            <a:ext cx="3967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71560" y="3801960"/>
            <a:ext cx="3246120" cy="1904760"/>
            <a:chOff x="871560" y="3801960"/>
            <a:chExt cx="3246120" cy="1904760"/>
          </a:xfrm>
        </p:grpSpPr>
        <p:sp>
          <p:nvSpPr>
            <p:cNvPr id="79" name=""/>
            <p:cNvSpPr/>
            <p:nvPr/>
          </p:nvSpPr>
          <p:spPr>
            <a:xfrm flipV="1">
              <a:off x="1505160" y="387792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1560" y="3801960"/>
              <a:ext cx="3246120" cy="1904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29960" y="5097240"/>
              <a:ext cx="150408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4 ch. T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34040" y="4182840"/>
              <a:ext cx="396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30040" y="3954240"/>
              <a:ext cx="102888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425600" y="4563720"/>
              <a:ext cx="79200" cy="30492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38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4640" y="45352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23840" y="3954600"/>
            <a:ext cx="1505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ch.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1760" y="5326200"/>
            <a:ext cx="3967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791320"/>
            <a:ext cx="44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*) http://proj-gol.web.cern.ch/proj-g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BE6-D194-43EB-B066-D9157BBAE8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75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 Func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371600"/>
            <a:ext cx="525636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4560" y="1905120"/>
            <a:ext cx="28969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to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 Domain Se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736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3720" y="1523880"/>
            <a:ext cx="13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/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7280" y="312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4560" y="3809880"/>
            <a:ext cx="28969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to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 Domain Sepa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736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720" y="3429000"/>
            <a:ext cx="13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/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7280" y="2971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6720" y="30481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7440" y="3276720"/>
            <a:ext cx="1220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3360" y="34290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12120" y="273672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8440" y="4724280"/>
            <a:ext cx="267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Start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  Data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Parity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Stop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6  bits @ 25 ns = 900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8080" y="5257800"/>
            <a:ext cx="29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Separator word 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DC data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  words in 900 ns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85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638680" y="2590920"/>
            <a:ext cx="1440000" cy="1439640"/>
            <a:chOff x="5638680" y="2590920"/>
            <a:chExt cx="1440000" cy="1439640"/>
          </a:xfrm>
        </p:grpSpPr>
        <p:sp>
          <p:nvSpPr>
            <p:cNvPr id="112" name=""/>
            <p:cNvSpPr/>
            <p:nvPr/>
          </p:nvSpPr>
          <p:spPr>
            <a:xfrm>
              <a:off x="5703840" y="2655720"/>
              <a:ext cx="1309680" cy="1309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59400" y="2655720"/>
              <a:ext cx="0" cy="13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03840" y="3311280"/>
              <a:ext cx="13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161040" y="2655360"/>
              <a:ext cx="395280" cy="13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967360" y="2721960"/>
              <a:ext cx="782640" cy="11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835600" y="2852280"/>
              <a:ext cx="104616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03840" y="3047400"/>
              <a:ext cx="130968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61040" y="2655720"/>
              <a:ext cx="395280" cy="13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67360" y="2722320"/>
              <a:ext cx="782640" cy="11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35600" y="2852640"/>
              <a:ext cx="104616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03840" y="3047760"/>
              <a:ext cx="130968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00760" y="2852640"/>
              <a:ext cx="915840" cy="915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590920"/>
              <a:ext cx="1440000" cy="1439640"/>
            </a:xfrm>
            <a:prstGeom prst="donut">
              <a:avLst>
                <a:gd name="adj" fmla="val 5555"/>
              </a:avLst>
            </a:prstGeom>
            <a:solidFill>
              <a:srgbClr val="cc99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89440" y="3047760"/>
              <a:ext cx="2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045120" y="2997000"/>
              <a:ext cx="786960" cy="65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65760" y="2895480"/>
              <a:ext cx="27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9440" y="3276360"/>
              <a:ext cx="414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869080" y="1523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143-75CC-4242-819E-D4625999D0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20640" y="685800"/>
            <a:ext cx="1906560" cy="36036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DC0, wor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0640" y="1600200"/>
            <a:ext cx="19065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0640" y="2057400"/>
            <a:ext cx="1906560" cy="360360"/>
          </a:xfrm>
          <a:prstGeom prst="rect">
            <a:avLst/>
          </a:prstGeom>
          <a:solidFill>
            <a:srgbClr val="99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3, wor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0640" y="2971800"/>
            <a:ext cx="1906560" cy="36036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DC0, wor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0640" y="3429000"/>
            <a:ext cx="1906560" cy="360360"/>
          </a:xfrm>
          <a:prstGeom prst="rect">
            <a:avLst/>
          </a:prstGeom>
          <a:solidFill>
            <a:srgbClr val="ffcccc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DC1, wor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0640" y="3886200"/>
            <a:ext cx="19065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0640" y="4343400"/>
            <a:ext cx="1906560" cy="360360"/>
          </a:xfrm>
          <a:prstGeom prst="rect">
            <a:avLst/>
          </a:prstGeom>
          <a:solidFill>
            <a:srgbClr val="99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3, wor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5000" y="5791320"/>
            <a:ext cx="1905120" cy="360360"/>
          </a:xfrm>
          <a:prstGeom prst="rect">
            <a:avLst/>
          </a:prstGeom>
          <a:solidFill>
            <a:srgbClr val="99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3, word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5791320"/>
            <a:ext cx="19047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17920" y="5791320"/>
            <a:ext cx="1905120" cy="360360"/>
          </a:xfrm>
          <a:prstGeom prst="rect">
            <a:avLst/>
          </a:prstGeom>
          <a:solidFill>
            <a:srgbClr val="ffcccc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DC1, word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17920" y="5334120"/>
            <a:ext cx="1905120" cy="360360"/>
          </a:xfrm>
          <a:prstGeom prst="rect">
            <a:avLst/>
          </a:prstGeom>
          <a:solidFill>
            <a:srgbClr val="ffcccc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DC1, wor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7920" y="4876920"/>
            <a:ext cx="1905120" cy="360360"/>
          </a:xfrm>
          <a:prstGeom prst="rect">
            <a:avLst/>
          </a:prstGeom>
          <a:solidFill>
            <a:srgbClr val="ffcccc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TDC1, wor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5334120"/>
            <a:ext cx="19047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1640" y="4876920"/>
            <a:ext cx="19047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419720"/>
            <a:ext cx="1904760" cy="360360"/>
          </a:xfrm>
          <a:prstGeom prst="rect">
            <a:avLst/>
          </a:prstGeom>
          <a:solidFill>
            <a:srgbClr val="ccff99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DC2, wor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85000" y="5334120"/>
            <a:ext cx="1905120" cy="360360"/>
          </a:xfrm>
          <a:prstGeom prst="rect">
            <a:avLst/>
          </a:prstGeom>
          <a:solidFill>
            <a:srgbClr val="99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C3, wor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824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79840" y="1828800"/>
            <a:ext cx="357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5968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79840" y="3962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03520" y="4648320"/>
            <a:ext cx="289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9484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99400" y="2209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8380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s the original TDC data from the CSM data stream, builds event fragments end sends these to the Read Out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05120"/>
            <a:ext cx="0" cy="12952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0640" y="1143000"/>
            <a:ext cx="1906560" cy="360360"/>
          </a:xfrm>
          <a:prstGeom prst="rect">
            <a:avLst/>
          </a:prstGeom>
          <a:solidFill>
            <a:srgbClr val="ffcccc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(tdc 1)  000…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4680" y="2514600"/>
            <a:ext cx="198252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parator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680" y="4800600"/>
            <a:ext cx="198252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parator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4680" y="228600"/>
            <a:ext cx="1982520" cy="360360"/>
          </a:xfrm>
          <a:prstGeom prst="rect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parator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720" y="4648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79840" y="3581280"/>
            <a:ext cx="15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79840" y="914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60720" y="914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7984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0844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21160" y="11430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kip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do not sto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9920" y="3049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imes New Roman"/>
              </a:rPr>
              <a:t>Check </a:t>
            </a:r>
            <a:r>
              <a:rPr b="0" lang="en-US" sz="1600" spc="-1" strike="noStrike">
                <a:solidFill>
                  <a:srgbClr val="ff33cc"/>
                </a:solidFill>
                <a:latin typeface="Times New Roman"/>
              </a:rPr>
              <a:t>(do not sto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220968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024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484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OD Functi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03520" y="45720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03520" y="1371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800" y="1445760"/>
            <a:ext cx="454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640" y="5257800"/>
            <a:ext cx="1906560" cy="36036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(tdc 0) 000…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4200" y="5791320"/>
            <a:ext cx="1905120" cy="36036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fa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DC0, word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03520" y="274320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502920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03520" y="541008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E49-1FD1-4E44-B4C7-427172D541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MROD Functi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 receives data from all of the 5 thru 8 MDT chambers which form o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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wer, from their respective CSMs via Gigabit Optical Links (G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 demultiplexes the TDC data from the CSMs, it builds the event fragments and it sends them to the Read Out Buffers (ROB) via an S-Link optical 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. estimated throughput at a 100 kHz level-1 trigger rate and at the full LHC design luminosity is 0.8-1.4 Gbit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(for details see the presentation by Charles Timmerm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OD recognizes errors and exceptions in its input  data streams and -- if appropriate -- informs the D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291-B5F9-46AE-B6D8-4ECFCEBFE9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 Form 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5316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371600"/>
            <a:ext cx="8667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ROD serves all (5 to 8) chambers of o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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U VME64x board (single slot), 8 (or 6) CSMs in, 1 S-Link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ROD Crate (Sub rack)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RODs (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g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rate Master with Ethernet Interface (DetD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IM: TTCrx Interface Module (incl. ROD Bus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192 towers: 192/12 = 16 MROD Crates (1 p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D0D-5B7C-4AC6-A774-0A5A98D6D6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2971800"/>
            <a:ext cx="8380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OD C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971800"/>
            <a:ext cx="8380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-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971800"/>
            <a:ext cx="8380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23160" y="31240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432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954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9718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1240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2004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668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37280" y="44956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76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292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05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720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69760" y="4495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2971800"/>
            <a:ext cx="8380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2760" y="312408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TCr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3640" y="1295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 Bu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590920"/>
            <a:ext cx="7924680" cy="0"/>
          </a:xfrm>
          <a:prstGeom prst="line">
            <a:avLst/>
          </a:prstGeom>
          <a:ln w="255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124080" y="19810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029200" y="19810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9548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80060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172200" y="2590920"/>
            <a:ext cx="0" cy="380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248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7856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00200" y="1828440"/>
            <a:ext cx="0" cy="114300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21932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DAQ / 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400" y="220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ME64x-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33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MROD Crate services 12 towers (one fu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or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otal 16 crates will be required for all MDT cha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44956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TC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2666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-bu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523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TLAS MROD Design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910-D03B-4950-A056-B0515AF7A5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3:04:57Z</dcterms:created>
  <dc:creator>Thei Wijnen</dc:creator>
  <dc:description/>
  <dc:language>en-US</dc:language>
  <cp:lastModifiedBy>Thei Wijnen</cp:lastModifiedBy>
  <cp:lastPrinted>2000-10-04T07:57:39Z</cp:lastPrinted>
  <dcterms:modified xsi:type="dcterms:W3CDTF">2003-11-10T15:08:52Z</dcterms:modified>
  <cp:revision>84</cp:revision>
  <dc:subject/>
  <dc:title>The MROD</dc:title>
</cp:coreProperties>
</file>